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373-4F92-48E1-B454-FDC03E29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FC4-713B-46D3-A95A-38BDBDE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5C8-8F83-449D-9E3D-35B1D6A3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2BC-9FE7-44E7-AA7C-1FB3AE68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0671-1966-4AB3-8036-68BAB6A6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A57C-06F7-4706-A89F-C9CF99EB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4EEE-A8CF-4BC8-9BE6-881852B0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5419-5718-4965-A2E8-662043FA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EBC7-710E-4B40-9A24-99977BAD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17B4-D636-4B41-BB5F-11476B0D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5286-6E47-498A-8CF3-B238BE8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77A-B7D8-405A-807C-6C07B9A6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3BD1-A118-4675-95DC-2F14EB7F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1AF7-E3FD-40CE-AE37-536409D0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2995-8FBB-46D4-863D-62CC4E5C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773F-5438-43F3-BF0C-3506847F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4235-9014-4B97-BA1F-2D163C6E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3EC-8F78-4B8A-89EB-4F71F47C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ADC-7DD8-48AB-BE31-735D5C4A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926-3360-4797-B18C-5D1A40B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336-C904-473D-9DE3-4260AB45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D44-2302-4E9C-8E8B-AA3142F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C1C-9233-40CA-A681-B72DD03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B8C-0C4A-407D-BC0E-0944009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B02D-8790-49EA-8B49-536F0920D346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84C9-EFC7-464E-AB64-2B375A32698E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E68C-0B70-4EE4-84F8-685B56ECDE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s de etique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3200" y="2279520"/>
            <a:ext cx="7383600" cy="213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66F-3196-4D50-920C-095094E244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triçõ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odo elemento da UML está associada algum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emânt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elemento gráfico possui um significado bem definido que, uma vez entendido, fica implícito na utilização do elemento em algum dia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stri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ermitem estender ou alterar a semântica natural de um elemento grá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 mecanismo geral especifica restrições sobre um ou mais valores de um ou mais elementos de um mode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942-035C-4267-A39C-FB664714B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triçõ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uma linguagem formal que pode ser utilizada para especificar restrições sobre diversos elementos de um mod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linguagem se cha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C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Linguagem de Restrição de Obje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CL pode ser utilizada para definir expressões de navegação entre objetos expressões lógicas, consulta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3DE-D17B-4C16-8551-66C87750B5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Capítulo 3</a:t>
            </a:r>
            <a:br>
              <a:rPr sz="5400"/>
            </a:b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Mecanismos Gerai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223F-407C-44B4-A611-9C9719315E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stereótip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o par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stend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enriquecer) o significado de um determinado elemento em um diagram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predefine diversos estereótip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possível também definir estereótipos específ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3CC-9059-48E1-AE62-65446E7E07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stereótip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reótipos podem ser classificados em dois tip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ereótipo gráfico: um ícone que lembre o significado do conceito a ele associad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ereótipos de rót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 nome delimitado pelos símbolos &lt;&lt; e &gt;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A37-AEE2-4380-9642-FCDE12E22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s de estereótip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32120" y="2205000"/>
            <a:ext cx="6226200" cy="15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1582560" y="4429080"/>
          <a:ext cx="2938680" cy="53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2560" y="4429080"/>
                    <a:ext cx="29386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610-A7A5-46D2-8359-3C599714C3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s explicativ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as para comentar ou esclarecer alguma parte de um dia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m ser descritas em texto livre; também podem corresponder a uma expressão formal utilizando OCL (adian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FE6-6AD3-41D7-B139-8D953322BA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s de notas explicat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12920" y="2060640"/>
            <a:ext cx="3811680" cy="156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793880" y="4237200"/>
          <a:ext cx="6540480" cy="83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3880" y="4237200"/>
                    <a:ext cx="6540480" cy="83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E6B-5A5B-4B0C-9AE5-B913AF2D37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tiquetas (Tags)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mentos gráficos de um diagrama da UML possuem propriedades predefin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as propriedades para elementos de um diagrama podem também ser definidas atravé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tique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B4E-76FF-4931-A7D1-99AB5060F8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tique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ternativas para definição de etique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{ tag = valor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{ tag1 = valor1 , tag2 = valor2 ...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{ tag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1A4-2DF0-44AC-BE23-EDD17B91D3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11:34Z</dcterms:modified>
  <cp:revision>376</cp:revision>
  <dc:subject>Sildes do livro</dc:subject>
  <dc:title>Princípios de Análise e Projeto Orientados a Objetos com UML</dc:title>
</cp:coreProperties>
</file>