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B40-3B2C-4DB9-91EA-E44079F0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90C-94A9-413E-8339-C503DAA3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F1A-6C6C-4BAA-A884-6038A6BF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9D7-93D7-456F-860A-2F8260F8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8C99-53DD-4447-8779-B638F89C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528E-4F3D-4EE6-B442-FCE641E3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4C8B-2BA0-48E8-86A8-211DEB15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8BBD-2217-4643-8C32-F722B10E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12FC-3FDD-4FC0-BE24-C9B81D63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9EA6-415E-4990-AFFC-BAD213C5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E6D1-DE0A-48A7-8572-DB2610E7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6126-FCA7-4E9F-A91C-CDABA825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2477-419F-45CA-B494-77C9B924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FEC5-7E2C-457D-9929-09EA5DE9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26AE-7907-4C49-A2BE-59F0F5B2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1E2E-A2A5-488E-BEF0-6C2543A4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B6FD-B331-447C-9C0E-76A3F43F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2BB-42A6-445A-A8BD-F478D746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470-ED1D-4EFE-B9AE-14058BE3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230-B033-4EBC-B403-E0B55EE9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4E5-D133-40C4-8679-5BC37650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C42-B475-4594-83A9-FE0A258B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1D9-6DFE-415E-881D-E5855F9F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4A2A-ED3A-428F-A31D-BFC7BBEC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47C3-6683-4E24-8C51-755DB327CE2E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BAA1-BDB5-4686-865E-108772304FBC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E653-F6DE-42EA-8161-3CD97C2724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 de descrição contínua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liente chega ao caixa eletrônico e insere seu cartão. O Sistema requisita a senha do Cliente. Após o Cliente fornecer sua senha e esta ser validada, o Sistema exibe as opções de operações possíveis. O Cliente opta por realizar um saque. Então o Sistema requisita o total a ser sacado. O Sistema fornece a quantia desejada e imprime o recibo para o C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E69-1006-4890-8DC3-2B40C79C95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 de descrição numerada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iente insere seu cartão no caixa eletrô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 apresenta solicitação de sen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iente digita sen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 exibe menu de operações disponíve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iente indica que deseja realizar um sa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 requisita quantia a ser sac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iente retira a quantia e recib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B7A-B841-4DD8-B436-201AD692B1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 de descrição numerada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8360" y="2252520"/>
          <a:ext cx="8532720" cy="3121200"/>
        </p:xfrm>
        <a:graphic>
          <a:graphicData uri="http://schemas.openxmlformats.org/drawingml/2006/table">
            <a:tbl>
              <a:tblPr/>
              <a:tblGrid>
                <a:gridCol w="4321080"/>
                <a:gridCol w="4211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li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iste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Insere seu cartão no caixa eletrôni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Digita senh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olicita realização de saqu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Retira a quantia e o recib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Apresenta solicitação de senh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xibe operações disponíve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Requisita quantia a ser saca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204-C571-4E03-992E-5232B242B1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etalhament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grau de detalhamento a ser utilizado na descrição de um caso de uso também pode vari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so de us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uci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screve as interações sem muitos detal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so de us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expandid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screve as interações em detal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D64-5FED-4235-BA23-3AC35F8B26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Grau de abstraç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grau de abstração de um caso de uso diz respeito à existência ou nã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enção à tecnolog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 ser utilizada na descrição deste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so de us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essenci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faz menção à tecnologia a ser utiliz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so de us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presenta detalhes da tecnologia a ser utilizada na implementação deste caso de uso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DB7-D528-44D2-AC31-E15B39E3EA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Grau de abstraç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63720" y="2900520"/>
          <a:ext cx="8000640" cy="2328480"/>
        </p:xfrm>
        <a:graphic>
          <a:graphicData uri="http://schemas.openxmlformats.org/drawingml/2006/table">
            <a:tbl>
              <a:tblPr/>
              <a:tblGrid>
                <a:gridCol w="8000640"/>
              </a:tblGrid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AutoNum type="arabicParenR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liente fornece sua identificaçã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AutoNum type="arabicParenR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istema identifica o usuári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AutoNum type="arabicParenR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istema fornece operações disponíve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AutoNum type="arabicParenR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liente solicita o saque de uma determinada quant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AutoNum type="arabicParenR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istema fornece a quantia desejada da conta do Clie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Book Antiqua"/>
                        <a:buAutoNum type="arabicParenR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liente recebe dinheiro e recib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571680" y="1676520"/>
            <a:ext cx="80010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descrição essencial (e numerad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FA9-83D7-4465-A476-1F41C94680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enário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so de uso tem diversas maneiras de ser rea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enár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a descrição de uma das maneiras pelas quais um caso de um pode ser rea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enário também é chamado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nstânc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um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rmalmente há diversos cenários para um mesmo um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Úteis durante 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odelagem de intera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204-B6C8-4093-BDD4-9560DC2058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enário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1600200"/>
          <a:ext cx="7772040" cy="4530240"/>
        </p:xfrm>
        <a:graphic>
          <a:graphicData uri="http://schemas.openxmlformats.org/drawingml/2006/table">
            <a:tbl>
              <a:tblPr/>
              <a:tblGrid>
                <a:gridCol w="7772040"/>
              </a:tblGrid>
              <a:tr h="456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m Cliente telefona para a empres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m Vendedor atende ao telefo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 declara seu desejo de fazer um pedido de compr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endedor pergunta a forma de pagamen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 indica que vai pagar com cartão de crédi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endedor requisita o número do cartão, a data de expiração e o endereço de entreg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endedor pede as informações do primeiro it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 fornece o primeiro it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endedor pede as informações do segundo it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 fornece o segundo 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endedor pede as informações do terceiro 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 e informa o terceiro it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endedor informa que o terceiro item está fora de estoq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 pede para que O Vendedor feche o pedido somente com os dois primeiros ite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endedor fornece o valor total, a data de entrega e uma identificação do pedi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 agradece e desliga o telefo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endedor contata a Transportadora para enviar o pedido de O Cl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81C-EDB6-406A-B11F-9EBD41B318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or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6899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mento </a:t>
            </a:r>
            <a:r>
              <a:rPr b="0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extern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0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interag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om 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terno”: atore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fazem parte do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age”: um ator troca informações com o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sos de uso representam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seqüência de intera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ntre o sistema e o 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sentido de troca de informações entre 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rmalmente um agente externo inicia a seqüência de interações como o sistema, ou um evento acontece para que o sistema respo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3762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434-C56F-45B3-988A-982F2C82CD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or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632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tegorias de a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esso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mpregado, Cliente, Gerente, Almoxarife, Vendedor,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rganiz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mpresa Fornecedora, Agência de Impostos, Administradora de Cartões, et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utros sistem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Sistema de Cobrança, Sistema de Estoque de Produtos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quipamen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Leitora de Código de Barras, Senso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86680" y="2060640"/>
            <a:ext cx="1562040" cy="927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277040" y="3789360"/>
            <a:ext cx="1866960" cy="1630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148360" y="4906800"/>
            <a:ext cx="1950840" cy="195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556-2A97-4108-89E9-A351E1729A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4</a:t>
            </a:r>
            <a:r>
              <a:rPr b="0" lang="sv-SE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Modelagem de Casos de Uso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Não diga pouco em muitas palavras, mas sim, muito em pou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itágor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C9AD-4FD7-4733-84EE-AE5D3584F2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or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ator corresponde a 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ape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presentado em relação a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esmo indivíduo pode ser o Cliente que compra mercadorias e o Vendedor que processa ven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pessoa pode representar o papel de Funcionário de uma instituição bancária que realiza a manutenção de um caixa eletrônico, mas também pode ser o Cliente do banco que realiza o saque de uma quan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nome dado a um ator deve lembrar o seu papel, ao invés de lembrar quem o repres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ECE-DBCF-4BFC-9C2B-7B420A7B25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ores primários e secundári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ator pode participar de muitos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so de uso pode envolver vários atores, o que resulta na classificação dos atores 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rimári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ecundári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ator primário é aquele que inicia uma seqüência de interações de um caso d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ores secundários supervisionam, operam, mantêm ou auxiliam na utilização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para que o Usuário (ator primário) requisite uma página a um Browser (sistema), um outro ator (secundário) está envolvido, o Servidor We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435-2B4E-4EDA-8A6A-4C5EE9FDC2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sos de uso e atores não existem sozinhos. Pode haver relacionamentos ent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define diversos de relacionamentos no modelo de casos de u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clu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xten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Gener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857-0E9D-4F32-9DD5-F804A9AB3B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comunic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xiste somente entre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nalogia útil: rot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m uma linguagem de programação, instruções podem ser agrupadas em uma unidade lógica chamada ro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empre que essas instruções devem ser executada, a rotina correspondente é cham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ando dois ou mais casos de uso incluem uma seqüência de interações comum, esta seqüência comum pode ser descrita em um outro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E54-5AA2-483A-BCBA-2C8EF96F73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comunic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ste caso de uso com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vita a descrição de uma mesma seqüência de interações mais de uma vez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orna a descrição dos casos de uso mais si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m exemplo: considere um sistema de controle de transações bancárias. Alguns casos de uso deste sistema sã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bter Extrat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alizar Saque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alizar Transferênci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Há uma seqüência de interações em comum: a seqüência de interações para validar a senha do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CDC-9A23-4D6F-B909-DBE149DDAF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extens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do para modelar situações onde diferentes seqüências de interações podem ser inseridas em um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jam A e B dois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relacionamento de extensão de A para B indica que um ou mais dos cenários de B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d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ncluir o comportamento especificado por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ste caso, diz-se que B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en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aso de uso A é chamad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endi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o caso de uso B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xtens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D10-F897-4397-95FD-25CCB4208E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extens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uma das diferentes seqüências representa um comportament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opcion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que só ocorre sob certas condições ou cuja realização depende da escolha do 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um ator opta por executar a seqüência de interações definida no extensor, este é execu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a sua execução, o fluxo de interações volta ao caso de uso estendido, recomeçando logo após o ponto em que o extensor foi inser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: não necessariamente o comportamento definido pelo caso de uso extensor é rea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310-601F-494A-A7A3-97CC156032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extens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considere um processador de textos. Considere que um dos casos de uso deste sistema sej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ditar Docume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cenário típico deste caso de uso, o ator abre o documento, modifica-o, salva as modificações e fecha o docu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s, em outro cenário, o ator pode desejar que o sistema faça uma verificação ortográfica no docu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outro, o ele pode querer realizar a substituição de um fragmento de texto por ou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6BDD-5AB4-40F7-BAE9-22FEC3DAD4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extens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ações d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ubstituir Tex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qualquer momento durant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ditar Docu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 ator pode optar por substituir um fragmento de texto por ou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tor fornece o texto a ser substituído e o texto substit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tor define os parâmetros de substituição (substituir somente palavras completas ou ocorrências dentro de palavras; substituir no documento todo ou somente na parte selecionada; ignorar ou considerar letras maiúsculas e minúscul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istema substitui todas as ocorrências encontradas no tex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B02-337D-4723-B72C-BF71A9EA43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generaliz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lacionamento no qual o reuso é mais evid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 relacionamento permite que um caso de uso (ou um ator) herde características de um caso de uso (ator) mais genér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aso de uso (ator) herdeiro pode especializar o comportamento do caso de uso (ator) 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existir entre dois casos de uso ou entre dois at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EFB-00DB-49D0-BE96-9F8144E7E6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odelo de casos de us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uma representação da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uncionalidad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xternamente observáveis do sistema e do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lementos extern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o sistema que interagem com o me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o de casos de uso modela o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quisitos funcionai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F59-9023-4D05-B8BC-D5AF87BAD3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generaliz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neralização entre casos de us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sejam A e B dois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B herda de A, as seqüências de comportamento de A valem também para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for necessário, B pode redefinir as seqüências de comportamento de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isso, B participa em qualquer relacionamento no qual A partici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ntagem: comportamento do caso de uso original é reutilizado pelos casos de uso herdei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ente o comportamento que não faz sentido ou é diferente para um herdeiro precisa ser redefin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DE3-87CC-451A-B777-A2BB9C0E4D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 de generaliz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neralização entre ator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ignifica que o herdeiro possui o mesmo comportamento que o ator do qual ele her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ém disso, o ator herdeiro pode participar em casos de uso em que o ator do qual ele herda não partici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exemplo: considere uma biblioteca na qual pode haver alunos e professores como usuá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os podem realizar empréstimos de títulos de livros e reservas de exemp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entanto, somente o professor pode requisitar a compra de títulos de livros à bibliote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E1E-7CB8-4EB0-A779-D582FAA005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Diagrama de casos de uso</a:t>
            </a: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6BB3-9D21-4EA4-9222-012FD6D4E4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asos de uso (DCU)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graficam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s atores, casos de uso e relacionamentos entre os ele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 o objetivo de ilustrar em um nível alto de abstração quais elementos externos interagem com que funcionalidades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espécie de “diagrama de context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senta os elementos externos de um sistema e as maneiras segundo as quais eles as utiliz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0E18-AE1D-43C0-89C4-5F4759BA20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notação para um ator em um DCU é a figura de um bone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o nome do ator definido abaixo desta fi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aso de uso é representado por uma elip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nome do caso de uso é posicionado abaixo ou dentro da elip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relacionamento de comunicação é representado por um segmento de reta ligando ator e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-se também representar a fronteira do sistema em um diagrama de casos de u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D8D-9488-4BCF-A449-565048B9E4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Notaçã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1677960"/>
          <a:ext cx="7772400" cy="43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7960"/>
                    <a:ext cx="777240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676-EA67-4BD4-BCD2-48A87352603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Notaçã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71640" y="1763640"/>
          <a:ext cx="7921440" cy="39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63640"/>
                    <a:ext cx="7921440" cy="39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F80-5911-4F94-8640-9992008A6B9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relacionamento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inclus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extens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heranç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ão  representados por uma seta direcionada de um caso de uso para ou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seta (tracejada) de um relacionamento de inclusão recebe o estereótip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clui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&gt;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seta (tracejada) de um relacionamento de inclusão recebe o estereótip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stend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&gt;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seta (sólida) de um relacionamento de herança  não recebe estereótip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F48-4587-4355-B570-66C05DC276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58920" y="1754280"/>
          <a:ext cx="7128000" cy="40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54280"/>
                    <a:ext cx="712800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C92-C3E2-4177-8A89-53053AD5F20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71640" y="1974960"/>
          <a:ext cx="7705800" cy="36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74960"/>
                    <a:ext cx="770580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90A-6B13-4367-AB25-9DF0CDC286A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diagrama da UML utilizado na modelagem de casos de uso é 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diagrama de casos de us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écnica de modelagem idealizada por Ivar Jacobson, na década de 197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is tarde, incorporada ao método Obje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steriormente, a notação de casos de uso foi adicionada à U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343-A3AB-4DC4-B33E-D32C1880EE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908000" y="1700280"/>
          <a:ext cx="489600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700280"/>
                    <a:ext cx="48960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3C6F-458F-4B6E-AE06-9DFF23659D7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19280" y="2205000"/>
          <a:ext cx="619272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05000"/>
                    <a:ext cx="619272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E1A-EF07-4312-BC44-BE36969F685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Identificação dos elementos do modelo de casos de uso </a:t>
            </a: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AAE3-04A1-4C0C-A1C1-374CDCBDDA3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Identificação dos elementos do modelo de casos de us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atores e os casos de uso são identificados a partir de informações coletadas na fase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rante esta fase, os analistas devem identificar as atividades do negócio relevantes ao sistema a ser construí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há uma regra geral que indiqu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a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asos de uso são necessários para descrever completamente um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quantidade de casos de uso a ser utilizada depende completamente d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mplex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1093-C354-49AD-BD21-7B9F367F931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dentificação de ator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5510160"/>
            <a:ext cx="1855800" cy="1231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295280" y="5662440"/>
            <a:ext cx="1836720" cy="107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581280" y="5975280"/>
            <a:ext cx="648000" cy="333360"/>
          </a:xfrm>
          <a:prstGeom prst="rightArrow">
            <a:avLst>
              <a:gd name="adj1" fmla="val 50000"/>
              <a:gd name="adj2" fmla="val 4859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5207040" y="5621400"/>
          <a:ext cx="517320" cy="39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7040" y="5621400"/>
                    <a:ext cx="5173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ntes e os destinos das informações a serem processadas são atores em poten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vez que um ator é todo elemento externo que interage com 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analista deve identific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áreas da empresa que serão afetadas ou utilizarão 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ntes de informações a serem processadas e os destinos das informações geradas pel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CB2-5F16-4878-90D7-1B07A81530B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dentificação de ator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guntas út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órgãos, empresas ou pessoas irão utilizar o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outros sistemas irão se comunicar com o sistema a ser construí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ém deve ser informado de alguma ocorrência no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m está interessado em um certo requisito funcional do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desenvolvedor deve ainda continuar a pensar sobre atores quando passar para a identificação dos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82C-DACE-4A82-A248-39E1707089C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dentificação de casos de u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artir da lista (inicial) de atores, deve-se passar à identificação dos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ssa identificação, pode-se distinguir entre dois tipos de casos de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ário: representa o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s at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cundário: aquele que não traz benefício direto para os atores, mas que é necessário para que sistema funcione adequad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0A1-B26F-4C7E-856F-56827BB3539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sos de uso primári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guntas út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is são as necessidades e objetivos de cada ator em relação ao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informações o sistema deve produz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istema deve realizar alguma ação que ocorre regularmente no tem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ada requisito funcional, existe um (ou mais) caso(s) de uso para atendê-l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Outras técnicas de identific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so de uso “opost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so de uso que precede a outro caso de uso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so de uso relacionado a uma condição interna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so de uso que sucede a outro caso de uso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so de uso temporal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51C-CE44-455F-9CD2-8C6143E2C5B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sos de uso secundári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s se encaixam nas seguintes categor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utenção de cadast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utenção de usuá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utenção de informações provenientes de outros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: Um sistema de software não existe para cadastrar informações, nem tampouco para gerenciar os seus usuá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objetivo principal é produzir algo de valor para o ambiente no qual ele está impla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330-65E8-46A7-BCFB-9DFD01FC8A8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onstrução do modelo de casos de uso  </a:t>
            </a: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002F-1C23-4BBB-8A1E-11387A74ADF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 modelo direciona diversas das tarefas posteriores do ciclo de vida do sistema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ém disso, o modelo de casos de uso força os desenvolvedores a moldar o sistema de acordo com o usuár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F73-F1D4-4A91-B889-4807DF769A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Construção do diagrama de casos de us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diagramas de casos de uso devem servir para dar suporte à parte escrita do modelo, fornecendo uma visão de alto ní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to mais fácil for a leitura do diagrama representando casos de uso, melh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o sistema sendo modelado não for tão complexo, pode ser criado um único DC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 diagrama permite dar uma visão global e de alto nível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0C4-6D5D-4458-9A34-F280F2C8D27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Construção do diagrama de casos de us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sistemas complexos, representar todos os casos de uso do sistema em um único DCU talvez o torne um tanto ilegí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ternativa: criar vários diagramas, de acordo com as necessidades de visual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exibindo um caso de uso e seus relacionamen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exibindo todos os casos de uso para um 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exibindo todos os casos de uso a serem implementados em um ciclo de desenvol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1EA-AE54-4061-8DC9-AC5109BDD63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ocumentação dos ator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419640" y="4292640"/>
            <a:ext cx="2574720" cy="15890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breve descrição para cada ator deve ser adicionada ao modelo de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nome de um ator deve lembrar o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pape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sempenhado pelo mesmo n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23F-4F58-4925-BA9D-3F91A82513D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ocumentação dos casos de us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L não define uma estruturação específica a ser utilizada na descrição do formato expandido de um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seguir, é apresentada uma sugestão de descri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quipe de desenvolvimento deve utilizar o formato de descrição que lhe for realmente 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F31-95F0-435B-87A8-7D8F181B8C5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ocumentação dos casos de us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367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entifi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â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or Pri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ores Secund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é-cond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1700280"/>
            <a:ext cx="4572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luxo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luxos Altern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luxos de Exce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ós-condi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ras do Negóc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tas de Implemen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3F6-E356-4A51-88D3-8A1148C9D84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ocumentação dos casos de us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6400800" cy="3645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84360" y="1600200"/>
            <a:ext cx="8064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escrição do modelo deve ser mantida no nível mais simples possíve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FE9-8E85-4B06-98BA-C8B8A090402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Documentação associada ao modelo de casos de uso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CF5D-2E4B-416E-A9E4-193499601FA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ocumentação dos casos de us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o de casos de uso força o desenvolvedor a pensar em como os agentes externos interagem como 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este modelo corresponde somente aos requisitos funcion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os tipos de requisitos (desempenho, interface, segurança, regras do negócio, etc.) também fazem parte d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ocumento de requisi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7D3-95BA-493D-A713-E223E354348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gras do negócio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políticas, condições ou restrições que devem ser consideradas na execução dos processos existentes em uma organ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revem a maneira pela qual a organização funci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s regras são identificadas e documentadas no chamad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odelo de regras do negóc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escrição do modelo de regras do negócio pode ser feita utilizando-se texto informal, ou alguma forma de estrutu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A08-9A5E-425D-88C9-0F55ED87E24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gras do negócio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ns exemplos de regras do negóc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 valor total de um pedido é igual à soma dos totais dos itens do pedido acrescido de 10% de taxa de entre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m professor só pode estar lecionando disciplinas para as quais esteja habili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m cliente do banco não pode retirar mais de R$ 1.000 por dia de sua co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s pedidos para um cliente não especial devem ser pagos antecip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3DC-BFA8-4FDC-9286-0C79596FCB7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onentes do model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o de casos de uso de um sistema é composto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acionamentos entre os elemento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5241-2275-497A-9BEE-661E1AE7E2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gras do negócio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ras do negócio normalmente têm influência sobre um ou mais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identificadores das regras do negócio devem ser adicionados à descrição do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ndo a seção “regras do negócio” da descrição do caso d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164-EACE-4A41-9203-D2274D586DE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gras do negócio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ível formato para documentação de uma regra de negóc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033560" y="2781360"/>
          <a:ext cx="7714800" cy="2988360"/>
        </p:xfrm>
        <a:graphic>
          <a:graphicData uri="http://schemas.openxmlformats.org/drawingml/2006/table">
            <a:tbl>
              <a:tblPr/>
              <a:tblGrid>
                <a:gridCol w="1508400"/>
                <a:gridCol w="620640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Quantidade de inscrições possíveis (RN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m aluno não pode ser inscrever em mais de seis disciplinas por semestre letiv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ordenador da escola de informá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istó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a de identificação: 12/07/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B64-81E9-40E9-8F9E-972511928BE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quisitos de desempenho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exão de casos de uso a requisitos de desempenh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26920" y="2565360"/>
          <a:ext cx="7859880" cy="3565440"/>
        </p:xfrm>
        <a:graphic>
          <a:graphicData uri="http://schemas.openxmlformats.org/drawingml/2006/table">
            <a:tbl>
              <a:tblPr/>
              <a:tblGrid>
                <a:gridCol w="2165400"/>
                <a:gridCol w="2521080"/>
                <a:gridCol w="2295360"/>
                <a:gridCol w="87804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dentific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 caso de u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reqü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 utiliz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áximo esp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SU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/mê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r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SU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5/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segu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SU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60/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r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SU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80/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 segun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SU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600/mê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0 segun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SU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00/dia durante 10 dias segu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0 segun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41B-1C18-48EA-818E-A00AA48E66B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Modelo de casos de uso no processo de desenvolvimento 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3278-7AFA-48CD-8E58-98DB7BB5C39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asos de uso no processo de desenvolv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identificação da maioria dos atores e casos de uso é feita na fase de concep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escrição dos casos de uso considerados mais críticos começa já nesta fase, que termina com 10% a 20% do modelo de casos de uso compl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o final da fase de elaboração 80% do modelo de casos de uso está construí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ição feita até em um nível de abstração esse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2E4-58C0-4629-AAB2-9617EA64F6D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asos de uso no processo de desenvolv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fase de construção, casos de uso formam uma base natural através da qual podem-se realizar as iterações do desenvolv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grupo de casos é alocado a cada ite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cada iteração, o grupo de casos de uso é detalhado e desenvolv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ocesso continua até que todos os casos de uso tenham sido desenvolvidos e o sistema esteja completamente construí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D9D-D3B3-4F15-B870-712B4570835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asos de uso no processo de desenvolv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 tipo de desenvolvimento é chamad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desenvolvimento dirigido a casos de us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-se considerar os casos de uso mais importantes primeir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ntor propõe uma classificação em função do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risco de desenvolvime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da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prioridades estabelecidas pelo usuár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) Risco alto e prioridade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) Risco alto e prioridade bai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) Risco baixo e prioridade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) Risco baixo e prioridade bai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63F-424B-4D48-BBC9-5BF53F6A7AB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asos de uso no processo de desenvolv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iderando-se essa categorização, um caso de uso não tão importante não será contemplado nas iterações inici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acar o risco maior mais ced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escrição expandida de um caso de uso pode ser deixada para a iteração na qual este deve ser impleme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ita perda de tempo inicial no detalh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atégia mais adaptável aos requisitos volát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986-4D89-4909-B2C2-06D485C4AE8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Casos de uso nas atividades de análise e projet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fase de análise, descrições de casos de uso devem capturar os requisitos funcionais do sistema e ignorar aspectos de projeto, como a interface gráfica com o usu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283-5757-4324-A5A5-59FFB4DAC05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roced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entifique os atores e casos de uso na fase de concep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fase de elabor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he o(s) diagrama(s) de casos de u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reva os casos de uso em um formato de alto nível e esse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dene a lista de casos de uso de acordo com prioridade e ris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e cada grupo de casos de uso a uma iteração da fase de constru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upos mais prioritários e arriscados nas iterações inici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8E6-F733-4D81-B490-1FC28AEDEA8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sos de u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aso de uso é a especificação de uma seqüência de interações entre um sistema e os agentes exter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 parte da funcionalidade de um sistema,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em revelar a estrutura e o comportamento internos deste sistem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modelo de casos de uso típico é formado de vários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386-5C3F-45B3-A19A-CC210037CC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roced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i-ésima iteração da fase de constru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talhe os casos de uso do grupo associado a esta iteração (nível de abstração re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lemente estes casos de u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972-848C-4820-BEF1-F3CB3285AAB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sos de uso e outras atividades do desenvolv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nejamento e gerenciamento do proje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ferramenta fundamental para o gerente de um projeto no planejamento e controle de um processo de desenvolvimento incremental e itera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stes do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casos de uso e seus cenários oferece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sos de tes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cumentação do usu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uais e guias do usuário podem ser construídos com base nos casos de u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2F5-B3D7-42F4-BC99-9BEFB0A9989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sos de u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2781360"/>
            <a:ext cx="7274160" cy="2233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5040" y="2865960"/>
            <a:ext cx="6999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caso de uso representa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quem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z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o qu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(interage) com o sistem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m considerar o comportame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rno do siste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488-B680-4B44-8BFA-3CAEDB72E5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escrições narrativa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aso de uso é definido através da descrição narrativa das interações que ocorrem entre o(s) elemento(s) externo(s) e 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várias formas de se descrever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u de ab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u de detalh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41A-413E-4282-B814-300BAFF3AC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bezerra</cp:lastModifiedBy>
  <dcterms:modified xsi:type="dcterms:W3CDTF">2003-02-21T16:12:02Z</dcterms:modified>
  <cp:revision>378</cp:revision>
  <dc:subject>Sildes do livro</dc:subject>
  <dc:title>Princípios de Análise e Projeto Orientados a Objetos com UML</dc:title>
</cp:coreProperties>
</file>