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AC3-47EA-4802-A3DC-655415C3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E00-DDF0-41EB-B315-7B274AD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CB3-13C2-4A35-8473-59A71AB5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890-27E5-413F-BD2B-12CAFA69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0A8-F396-42BE-A308-C2BE1A81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AC1-3D15-4FCC-80E4-BAB7CE13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2022-14E8-4A31-9238-6E8A681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6213-9285-4E9C-8048-A68DAB7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924-B827-4B58-9F52-6D127016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82F-7203-486E-ABB9-CEDF205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DEAD-FF74-4110-8BEB-A84AE45B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1CE-B178-4B49-911C-AF99863C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22A1-066A-4065-97D0-2A39FCA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0642-8461-4CB5-BDDC-17BB2B86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456B-EBD1-47CE-A48A-BA9F3AA7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9EC-E833-4D1E-85A0-8BA4FD5D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3525-56F9-4301-9148-B7DF9DD5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F41-E202-4717-BBF6-0D63DFE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197-D8CC-4F4E-A464-F2BD4E34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06F-1EB7-43DF-A078-C14C72E4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B51-2055-4A5F-AC7D-9E122E7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719-A0C5-42A1-96C6-9E38FD4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E71-1FAC-45DB-8D7A-D6BB861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767-E3EC-4467-ABB4-9C66D0A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166-5ABD-48BF-910E-510AA067983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47DD-2355-4BF0-97DB-ED8B2715850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69BA-9BF1-4C16-A667-EF4D4C9A58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uma clas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da através de uma “caixa” com no máximo três compartimentos exib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ação utilizada depende do nível de abstração desej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1280" y="3821040"/>
            <a:ext cx="8281800" cy="10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689-6ACF-4335-B289-A82F8B5F21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lasse ContaBancári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90680"/>
            <a:ext cx="7772400" cy="31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B83-6A94-4F7E-9B05-2B8A773F3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representar o fato de que objetos podem se relacionar uns com os outros, utiliza-se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ssociação representa relacionamentos (ligações)que são formados entre objetos durante a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bora as associações sejam representadas entre classes do diagrama, tais associações representam ligações possíveis entr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s classes envolvi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503-43DE-4205-9C86-7B5F6BEEF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uma associ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da através de um segmento de reta ligando as classes cujos objetos se relacion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35280" y="3500280"/>
          <a:ext cx="57466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00280"/>
                    <a:ext cx="5746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835280" y="4437000"/>
          <a:ext cx="669744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66974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5516640"/>
          <a:ext cx="590544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5516640"/>
                    <a:ext cx="5905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533-145A-4F11-B9C6-7D512059A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plic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m a informação dos limites inferior e superior da quantidade de objetos aos quais um outro objeto pode estar asso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ssociação em um diagrama de classes possui duas multiplicidades, uma em cada extremo da linha de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91E-B6AD-4BD3-9584-97D41F3ED6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plic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87280" y="2136600"/>
          <a:ext cx="7129800" cy="3195720"/>
        </p:xfrm>
        <a:graphic>
          <a:graphicData uri="http://schemas.openxmlformats.org/drawingml/2006/table">
            <a:tbl>
              <a:tblPr/>
              <a:tblGrid>
                <a:gridCol w="4537080"/>
                <a:gridCol w="259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mb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penas 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1 (ou 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ero ou Mu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 (ou 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ou Mu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ero ou 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rvalo Especí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l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CDC-0585-4823-9707-2FFDF90DA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multiplic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628640"/>
            <a:ext cx="77724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 cliente que esteja associado a vários ped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 cliente que não esteja associado a pedido alg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edido está associado a um, e somente um, cl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87280" y="4956120"/>
          <a:ext cx="7417080" cy="9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56120"/>
                    <a:ext cx="74170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E90-B68B-4376-89A8-90984C00E2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multiplic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2864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rrida está associada a, no mínimo, dois velocis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rrida está associada a, no máximo, seis veloc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velocist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ar associado a várias corr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14520" y="4976640"/>
          <a:ext cx="65865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4976640"/>
                    <a:ext cx="6586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F92-3B5E-4D0A-AB0B-EF9B8524FF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ec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conectiv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rresponde ao tipo de associação entre duas classes: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e 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u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ectividade da associação entre duas classes depende dos símbolos de multiplicidade que são utilizados n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CBB-C07F-436C-852D-1921A38E09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ectividade X Multiplic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0320" y="2276640"/>
          <a:ext cx="7988400" cy="3247920"/>
        </p:xfrm>
        <a:graphic>
          <a:graphicData uri="http://schemas.openxmlformats.org/drawingml/2006/table">
            <a:tbl>
              <a:tblPr/>
              <a:tblGrid>
                <a:gridCol w="3090960"/>
                <a:gridCol w="2233440"/>
                <a:gridCol w="2664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ectiv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 um extr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 outro extre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para 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m para mu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itos para mu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0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F7-7B9F-45ED-90F9-00207BD145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5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agem de Classes do Domínio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47280" y="3962160"/>
            <a:ext cx="6681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emos uma capacidade inata de ordenar em diferentes grupos e classes todas as nossas impressões sensori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tein Gaardner, O mundo de Sofia,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1FCC-3A08-4834-9E7B-4C938A539C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onectividade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2592360"/>
          <a:ext cx="838836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592360"/>
                    <a:ext cx="838836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A40-1E46-463F-A728-5BF462D94E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aracterística de uma associação que indica a necessidade (ou não) da existência desta associação entre obj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cipação pode se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brigató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p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valor mínimo da multiplicidade de uma associação é igual a 1 (um), significa que a participaçã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brigató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contrário, a participaçã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opcion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618-B977-4647-A56C-E3199E5C61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ome de associação, direção de leitura e papéi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melhor esclarecer o significado de uma associação no diagrama de classes, a UML define três recursos de no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Nome da associ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fornece algum significado semântico a mes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Direção de leitur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indica como a associação deve ser 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Pape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para representar um papel específico em um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364-8A54-4ABC-BC20-03C79915A6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(Nome de associação, direção de leitura e papéis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25400" y="2532240"/>
          <a:ext cx="80946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2532240"/>
                    <a:ext cx="80946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D25-301F-454B-9A00-348CE136A7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 caso especial da assoc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eqüentemente, multiplicidades, participações, papéis, etc. podem ser usados ig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 para representar conexões que guardam uma relaç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odo-par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agregação, um objeto está contido no outro, ao contrário de um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se puder utilizar uma agregação, uma associação também poderá ser utiliz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9D9-5E9A-4D88-B5B5-BCA42D97BC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particul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regações são assimétricas: se um objeto A é parte de um objeto B, B não pode ser parte de 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regações propagam comportamento, no sentido de que um comportamento que se aplica a um todo automaticamente se aplica as suas part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E1F-1D50-4E43-A619-F6BF879A1BC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gr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duas classes associadas, X e Y. Se uma das perguntas a seguir for respondida com um sim, provavelmente há uma agregação onde X é todo e Y é pa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X tem um ou mais 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Y é parte de 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674-2D86-4D8E-BD56-500A9C3DA1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330033"/>
                </a:solidFill>
                <a:latin typeface="Times New Roman"/>
              </a:rPr>
              <a:t>Notação para uma agregação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3970440"/>
          <a:ext cx="828180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970440"/>
                    <a:ext cx="82818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14400" y="1600200"/>
            <a:ext cx="7772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presentada como uma linha conectando as classes relacionadas, com um diamante (losango) branco perto da classe que representa o to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EE26-C823-4551-9552-895C2CE187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associativ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classe que está ligada a uma associação, ao invés de estar ligada a outras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normalmente necessária quando duas ou mais classes estão associadas, e é necessário manter informações sobre est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associativa pode estar ligada a associações de qualquer tipo de conectiv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252-CF97-493C-8330-60A83B3E5C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Notação para uma classe associativa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600200"/>
            <a:ext cx="7772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presentada pela notação utilizada para uma classe. A diferença é que esta classe é ligada a uma associaçã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258920" y="3573360"/>
          <a:ext cx="734364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73360"/>
                    <a:ext cx="734364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798-134F-444F-9D5E-0299DB02B3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asos de uso fornece uma perspectiva do sistema a partir de um ponto de vist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xter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posse da visão de casos de uso, os desenvolvedores precisam prosseguir no desenvolviment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EF3-BAE6-4C58-A072-B055B1E4DA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 n-ári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tilizadas para representar a associação existente entre objetos de n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sociação terná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uma caso mais comum (menos raro) de associação n-ária (n = 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notação da UML, as linhas de associação se interceptam em um losa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444-4A17-4AAF-85AA-6D25C685AC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associação ternári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32000" y="2565360"/>
          <a:ext cx="6337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6337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727-8AFB-46B0-BD67-DDCED87EE8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sociações reflex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 objetos da mes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objeto tem um papel distinto n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tilização de papéis é bastante importante para evitar ambigüidades na leitura da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ssociação reflexiv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indica que um objeto se associa com ele próp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contrário, indica que objetos de uma mesma classe se associ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6F9-AAEA-441A-99DE-59B23AC08F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Exemplo (associação reflexiva)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484360" y="2446200"/>
          <a:ext cx="4608720" cy="28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46200"/>
                    <a:ext cx="4608720" cy="28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728-F874-4B0A-BA8B-9BE15FD9A3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Identificando as classes iniciais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B6B-8CE8-4F60-912D-B010DB0223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Identificando class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stema de software orientado a objetos é composto de objetos em colaboração para realizar as tarefas deste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outro lado, todo objeto pertence a u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nto, quando se fala na identificação das classes, o objetivo na verdade é saber quais objetos irão compor 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66A-C4D3-4641-BBF7-0F8B97177C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Identificando classe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forma geral, a identificação de classes se divide em duas ativi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imeiramente,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classes candidat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ão identific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pois disso, são aplicados alguns princípios para eliminar classes candidatas desnecessá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ssíve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lasses para um sistema não é complicado; o difícil é eliminar deste conjunto o que não é necessá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3ED-DF94-46CE-80AA-5309DEE544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irigida a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odo de identificação onde a ênfase está na identificação de classes a partir de seu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ort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xternos relevantes para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 classe faz para cumprir com suas responsabilidades deve ser abstraí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esforço recai sobre a identificação 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sponsabi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cada classe deve 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dirigido a responsabilidades enfatiza o encapsulamento da estrutura e do comportamento dos objetos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206-E88C-4203-89DA-85C24BE668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sistemas OO, objetos encapsulam tanto dados quanto comport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mportamento de um objeto é definido de tal forma que ele possa cumprir com sua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sponsabil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sponsabilidade é uma obrigação que um objeto tem para com o sistema no qual ele está ins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avés delas, um objeto colabora (ajuda) com outros para que os objetivos do sistema sejam alcançad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066-3CD2-4163-B7F2-17DE8353F4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ática, uma responsabilidade é alguma coisa que um obje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az. (sozinho ou não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Client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eu nome, seu endereço, seu telefone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Pedid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conhec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ua data de realização e sab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aze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o cálculo do seu to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um objeto tem uma responsabilidade com a qual não pode cumprir sozinho, ele deve requisita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labo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outr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091-F2F8-4E58-94DE-C6D1209334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uncionalidade externa de um sistema orientado a objetos é fornecida através de colaborações entr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ternamente, os atores visualizam resultados de cálculos, relatórios produzidos, confirmações de requisições realizada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namente, os objetos colaboram uns com os outros para produzir os result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colaboração pode ser vista sob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pecto dinâmic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sob 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specto estrutural estát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spectos dinâmico e estátic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554-05B2-42F1-B33E-B6668A5AD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xemplo: quando a impressão de uma fatura é requisitada em um sistema de vendas, vários objetos precisam colabo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Pedido pode ter a responsabilidade de fornecer o seu valor 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Cliente fornece seu n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ItemPedido informa a quantidade correspondente e o valor de seu subto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objetos Produto também colaboraram fornecendo seu nome e preço unitári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4D8-F897-4119-9C7E-B15C03115A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ponsabilidades e colaborad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58920" y="1989000"/>
          <a:ext cx="691200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91200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0B3-9B0D-4A70-9DEA-77C5AD2784A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tegorias de responsabilidad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stuma-se categorizar os objetos de um sistema de acordo com o tipo de responsabilidade a ele atribu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ent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cont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fronte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categorização foi proposta por Ivar Jacobson (Jacobson et al, 1992) em uma técnica denominada Análise de Robust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3FA-3525-41C8-A346-AB69AE745C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985160" y="189000"/>
          <a:ext cx="9079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5160" y="189000"/>
                    <a:ext cx="907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de entidade é um repositório para alg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form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manipulada pel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objetos representam conceitos do domínio do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esses objetos armazenam informações persist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árias instâncias de uma mesma classe de entidade coexistindo n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8F6-708E-4999-A225-954EA67FB05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res não têm acesso direto a este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entidade se comunicam com o exterior do sistema por intermédio de outro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de entidade normalmente participam de vários casos de uso e têm um ciclo de vida lon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ode participar dos casos de us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Realizar Pedid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Atualizar Estoqu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Este objeto pode existir por diversos anos ou mesmo tanto quanto o própri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4B2-44A8-455E-9C66-E463DE2857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Ent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fazer típicas de objetos de ent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formar valores de seus atributos a objetos de cont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r cálculos simples, normalmente com a colaboração de objetos de entidade associados através de agreg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e destruir objetos parte (considerando que o objeto de entidade seja um objeto todo de uma agregaçã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E66-864C-4DB5-AD3A-CDFD130471B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083440" y="44280"/>
            <a:ext cx="881280" cy="1297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objetos traduzem os eventos gerados por um ator em eventos relevantes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são responsáveis por apresentar os resultados de uma interação dos objetos em algo inteligível pelo 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de fronteira existe para que o sistema se comunique com o mundo ex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conseqüência, estes objetos são altamente dependentes do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772-EED3-42CA-A2F1-914AD1BBF32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de fronteira realizam a comunicação do sistema com atores, sejam eles outros sistemas, equipamentos ou sere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tipos principais de classes de frontei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o usuário (atores humanos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outr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que se comunicam com dispositivos atrelados a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E76-203B-4410-A85B-D4C5D3EF239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icamente têm as seguintes 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faz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tificar aos objetos de controle de eventos gerados externamente a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tificar aos atores do resultado de interações entre os objetos inter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7A9-E78D-4CF1-82A8-27C19760127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Fronteir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conhec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classes de fronteira para interação humana representam informação manipulada através da interface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construção de protótipos pode ajudar a identificar essas responsab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conhecer para classes de fronteira que realizam comunicação com outros sistemas representam propriedades de uma interface de comunic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81C-7133-4774-BD88-1A850BBA480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 da UML utilizado para representar o aspecto estático é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clas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composto desse diagrama e da descrição textual associ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s principais deste capít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um método para identificação das classes de objetos de um sistema partir do modelo de casos de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r alguns dos elementos do diagrama de classes (outros elementos são descritos em capítulos posterio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a construção do modelo de domí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r a inserção do modelo de classes no processo de desenvolv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D37-A6F1-4DDF-A1E3-7A0C70801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732720" y="115920"/>
          <a:ext cx="207144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115920"/>
                    <a:ext cx="207144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a “ponte de comunicação” entre objetos de fronteira e objetos de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áveis por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ar a lógica de execu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rrespondente a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idem o que o sistema deve fazer quando um evento externo relevante oco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les realizam o controle do process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em como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gerent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(coordenadores, controladores) dos outros objetos para a realização de um ou mais caso de u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632-195B-489A-97A4-48D31A0279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bastante acoplados à lógica da apl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zem eventos externos em operações que devem ser realizadas pelos demai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o contrário dos objetos de entidade e de fronteira, objetos de controle são tipicamente 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ultam informações e requisitam serviços de outro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A81-B6E6-4FEA-A7EF-F93F671AF3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fazer típ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r monitorações, a fim de responder a eventos externos ao sistema (gerados por objetos de fronteir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realização de um caso de uso através do envio de mensagens a objetos de fronteira 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segurar que as regras do negócio (Seção 4.5.1) estão sendo seguidas corret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criação de associações entr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1EA-CACA-4EB8-A8A0-583F313CB3C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de Control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ponsabilidades de conhecer  estão associadas manter valores acumulados, temporários ou derivados durante a realizaçã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também ter o objetivo de manter o estado da realiza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êm vida curta: normalmente existem somente durante a realização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140-B254-4954-A44A-90252EE3DA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tegorização de responsabilidades implica em que cada objeto é especialista em realizar um de três tipos de taref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comunicar com atores (frontei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ter as informações do sistema (entida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ordenar a realização de um caso de uso (control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mportância dessa categorização está relacionada à capacidade de adaptação do sistema a eventuais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C1E-CB5F-4810-82C9-17F869BB5F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cada objeto tem funções específicas dentro do sistema, eventuais mudanças no sistema podem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nos complex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locali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ventual modificação em uma parte do sistema tem menos possibilidades de resultar em mudanças em outras par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27F-F073-46AE-95A5-D0A62816C97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55640" y="1706400"/>
          <a:ext cx="7772400" cy="4530960"/>
        </p:xfrm>
        <a:graphic>
          <a:graphicData uri="http://schemas.openxmlformats.org/drawingml/2006/table">
            <a:tbl>
              <a:tblPr/>
              <a:tblGrid>
                <a:gridCol w="5688000"/>
                <a:gridCol w="20844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po de muda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nde mu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169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em relação à interface gráfica, ou em relação à comunicação com outros sistem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rontei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nas informações manipuladas pelo do sist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danças em funcionalidades complexas (lógica do negóci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DC9-A5C8-47AF-92CE-AADD537EE8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vantagem de separação de responsabilidades em um sistema para uma loja de aluguel de car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sistema tiver que ser atualizado para que seus usuários possam utilizá-lo pela Internet, a lógica da aplicação não precisaria de modific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a lógica para calcular o valor total das locações feitas por um cliente: se esta lógica estiver encapsulada em uma classe de controle, somente esta classe precisaria de modific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553-E27C-464A-9CFF-34DA8D8EE44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um sistema de software que faça separação das responsabilidades de apresentação (fronteira), de lógica da aplicação (controle) e de manutenção dos dados (entidad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cilita também o reuso dos objetos no desenvolvimento de sistemas de software semelh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juda no desacoplamento entre elementos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887-2142-45C6-BFF6-F0EF7D18E4B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visão de responsabilidades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87280" y="1611360"/>
          <a:ext cx="648036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11360"/>
                    <a:ext cx="648036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D57-B78D-4901-BDBE-7F65705BF1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modelo de classes evolui durante o desenvolviment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À medida que o sistema é desenvolvido, o modelo de classes é incrementado com novos detalh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íveis sucessivos de abst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omín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Implementa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821-BEDB-4CAA-9E59-64C1E3934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nálise os casos de 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da caso de uso é analisado para identificar classes candida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missa: a partir da descrição textual dos casos de uso, podem-se derivar as class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existência de uma classe em um sistema só pode se justificar se ela participa de alguma forma para o comportamento externamente visível d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C4F-02A4-4D85-B8E2-990A6D8328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substantivos que aparecem no texto do caso de uso são destac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10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ão também consideradas locuções equivalentes a substantiv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ônimos são remov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abordagem é bastante si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depende de como os casos de uso foram escr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600" indent="-41040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linguagem natural, as formas de expressar uma mesma idéia são bastante numeros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599-D41B-45A4-AEEC-3CA49ED3F49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ndo para a identificação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ontornar os problemas na identificação de classes através da análise de casos de uso, uma solução é aplicar uma estratégia em dois pa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z-se a análise dos casos de uso para identificar as classes candid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pois disso, aplica-se uma outra técnica para validar o que foi descoberto e para identificar novas classes: a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modelagem CRC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D9E-0A3F-44A9-B0BB-916DE099AA0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baseia fortemente no paradigma da orientação a objetos, onde objetos cooperam uns com os outros para que uma tarefa do sistema seja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fetiva quando profissionais que não têm tanta experiência com o paradigma da orientação a objetos estão envolvidos na identifica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alizada em conjunto por especialistas de domínio e desenvolv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221-C573-4A04-A787-1BB1CFFC705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odelagem CRC não faz parte da U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ncípio, essa técnica foi proposta como uma forma de ensinar o paradigma da orientação a objetos a inici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udo, a sua simplicidade de notação a tornou particularmente interessante para ser utilizada na identificação de classes de domín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179-E5BD-417E-85CE-E7A0949B97E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ecialistas do negócio e desenvolvedores trabalham em conjunto para identificar classes, juntamente com suas responsabilidades e colabor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profissionais se reúnem em uma sala, onde tem início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ssão CR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essão CRC envolve por volta de meia dúzia de pessoas: especialistas de domínio, projetistas, analistas e um moder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a pessoa é entregue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artão CR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311-2B4D-42A0-882A-AECF1504CC3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rtão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87280" y="2492280"/>
          <a:ext cx="7129440" cy="2425680"/>
        </p:xfrm>
        <a:graphic>
          <a:graphicData uri="http://schemas.openxmlformats.org/drawingml/2006/table">
            <a:tbl>
              <a:tblPr/>
              <a:tblGrid>
                <a:gridCol w="3889440"/>
                <a:gridCol w="3240000"/>
              </a:tblGrid>
              <a:tr h="50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 da classe (especialida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a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abo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ª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ª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-ésima responsabi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º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º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-ésimo colabo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D30-3130-413B-B00F-029206C4661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Cartão CRC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2349360"/>
          <a:ext cx="8244000" cy="3268800"/>
        </p:xfrm>
        <a:graphic>
          <a:graphicData uri="http://schemas.openxmlformats.org/drawingml/2006/table">
            <a:tbl>
              <a:tblPr/>
              <a:tblGrid>
                <a:gridCol w="5112000"/>
                <a:gridCol w="3132000"/>
              </a:tblGrid>
              <a:tr h="46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Bancária (entida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sponsabil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labor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cl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númer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hecer o seu sal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nter um histórico de    transaçõ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90000"/>
                        <a:buFont typeface="Courier New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ceitar saques e depósi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istóricoTransa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5E2-1DA0-42DF-BCE2-3B4C71577B3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stribuição dos cartões pelos participantes, deve-se considerar as categorias de responsabi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 de caso de uso típico, pode-se começar c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de fronteira para cada ator participante do caso de us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bjeto de controle para todo o caso de us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rmalmente há vários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3E8-DF19-4ADA-9856-97D051AC543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iguraçã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derador da sessão pode desempenhar o papel do objeto control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tro participante desempenha o papel do objeto de front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outro participante pode simular o ator (ou atores, se houver mais de u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demais representam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264-A963-4208-8C43-A586BEFE261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domíni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as classes no domínio do negócio em questão. Não leva em consideração restrições inerentes à tecnologia a ser utilizada na solução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especif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obtido através da adição de detalhes ao modelo anterior conforme a solução de software escolh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classes de i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rresponde à implementação das classes em alguma linguagem de progra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8BD-DACE-4DC1-BA17-B103FDCF03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distribuídos os cartões pelos participantes, um conjunto de cenários de cada caso de uso é selecio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, uma sessão CRC é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 caso de uso não for tão complexo, ele pode ser analisado em uma única sess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rmalmente já existem algumas classes candidatas para um certo cen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9D9-0535-44B4-9EBA-016A1F2C344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sessão CRC começa com a simulação do ator primário disparando a realização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demais participantes encenam a colaboração entre objetos para que o objetivo do ator seja alcanç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essa encenação, as classes, responsabilidades e colaborações são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6B1-989D-44A8-B9EB-4DF3D592A27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CRC (procedimento)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lecionar um conjunto de cenários de casos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um dos ce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aminar a sua seqüência de passos para identificar as responsabilidades do sistema em relação a cada um desses pas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entificar classes relevantes que devem cumprir com as responsab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etir o passo 2 para o próximo cenário e modificar a alocação de responsabilidades e a defini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A03-55AF-4414-88C8-DD72D288CB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cas para atribuição de responsabilidad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r responsabilidades com base na especialidade d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ribuir a inteligência do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rupar as responsabilidades conceitualmente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itar responsabilidades redund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3F3-1C70-4BC7-ABA8-2E9CA95E72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o modelo de classes de domínio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941-C8C0-4DD6-8AC2-642D0566826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Propriedades de uma classe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responsabilidade de conhecer é mapeada para um ou mais atribu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de uma classe são um modo mais detalhado de explicitar as responsabilidades de faz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operação pode ser vista como uma contribuição da classe para uma tarefa mais complexa representada por um caso de u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definição mais completa das operações de uma classe só pode ser feita após a construção dos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agramas de inter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999-04A9-4917-8AC0-24D601FEA4B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finição de associações e agreg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fato de uma classe possuir colaboradores indica que devem existir relacionamentos entre estes últimos e a 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sto porque um objeto precisa conhecer o outro para poder lhe fazer requisiçõ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tanto, para criar associações, verifique os colaboradores de uma clas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aciocínio para definir associações reflexivas, ternárias e agregações é o me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F14-809B-483E-91D6-0CA43BC03A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finição de classes associa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m a partir de responsabilidades de conhecer que o modelador não conseguiu atribuir a alguma 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600" indent="-4064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mais raramente, de responsabilidad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 fa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55640" y="3746520"/>
          <a:ext cx="806436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46520"/>
                    <a:ext cx="8064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D18-FAB4-4009-B490-AF36A9FB5BC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5564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esponsabilidades e colaboradores mapeados para elementos do modelo de classes devem ser organizados em um diagrama de classes e documentados, resultando n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classes de domín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ser associados estereótipos predefinidos às classes identific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onteira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9996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9241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119-13DE-42FC-A17C-3195B8614DE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um único diagrama de classes para todo o sistema pode resultar em um diagrama bastante complexo. Um alternativa é criar uma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são de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asses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rticip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VCP) para cada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VCP, são exibidos os objetos que participam de um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VCPs podem ser reunidas para formar um único diagrama de classes para o sistema como um 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5FC-0671-4620-8246-37F7B1FBE23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termos do domínio do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descrever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presentado pelo sistema a ser desenvolvido, sem considerar características 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ser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lasses de domínio é descrito neste capít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lasses de domín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72A-B88B-4170-A28D-AE6383BCD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ocumentando o modelo de 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ador pode optar por “esconder” as classes de fronteira ou até mesmo as classes de contr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ferramenta CASE que dê suporte a essa operação seria de grande ajuda para a equipe de desenvolvi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, as classes devem ser documentadas textual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20A-F4A6-4E89-B015-B14055110AC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327636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2213-9C9A-41B4-9396-F7C83AB112B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 desenvolvimento dirigido a casos de uso, após a descrição dos casos de uso, é possível iniciar a identificaçã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identificadas são refinadas para retirar inconsistências e redundâ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são documentadas e o diagrama de classes inicial é construído, resultando no modelo de classes de domí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711C-5A12-45BB-84A3-B1105FE8E81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onsistências nos modelos devem ser verificadas e corrig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onstruções do modelo de casos de uso e do modelo de classes são retroativas uma sobre a out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realização de uma sessão CRC, novos casos de uso podem ser identifi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-se identificar a necessidade de modificação de casos de uso preexist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EBA-35D3-49C7-A576-FB9F98A8524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lasses no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talhes são adicionados aos modelos, à medida que o problema é entend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042920" y="2852640"/>
          <a:ext cx="7135920" cy="31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852640"/>
                    <a:ext cx="71359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216-0BC1-4CA2-998E-2BDAE4DBF68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267C-DA06-4B7C-A8C4-3304EF86FF6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 de classes, A UML define um segundo tipo de diagrama estrutural, o diagrama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visto co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diagramas d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uma “fotografia” do sistema em um cer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be as ligações formadas entre objetos conforme estes interagem e os valores dos seus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8D1-D803-4EAF-AAE5-BB2D7EE26C8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26920" y="2013120"/>
          <a:ext cx="7772400" cy="1487160"/>
        </p:xfrm>
        <a:graphic>
          <a:graphicData uri="http://schemas.openxmlformats.org/drawingml/2006/table">
            <a:tbl>
              <a:tblPr/>
              <a:tblGrid>
                <a:gridCol w="4440240"/>
                <a:gridCol w="3332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r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xemp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nome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Ped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nomeObjeto: NomeCl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umPedido: Ped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2320-8760-4A9E-BEFE-843899C51FF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Diagrama de objeto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901880"/>
          <a:ext cx="8569440" cy="37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901880"/>
                    <a:ext cx="8569440" cy="37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846-8F70-4558-83C2-E5CCE65D0F2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Diagrama de objeto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55640" y="2276640"/>
          <a:ext cx="817236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276640"/>
                    <a:ext cx="81723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30A-75FC-482A-9E13-DC863795013E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representa um grupo de objetos semelh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descreve esses objetos atravé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tribu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tributos correspondem às informações que um objeto armaze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operações correspondem às ações que um objeto sabe rea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15C-EE62-4043-A480-975C98F581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 diagrama de classes, A UML define um segundo tipo de diagrama estrutural, o diagrama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visto co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diagramas d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uma “fotografia” do sistema em um certo mo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ibe as ligações formadas entre objetos conforme estes interagem e os valores dos seus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37F-CF0B-4313-9A33-E90E2B41EC4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7:08Z</dcterms:modified>
  <cp:revision>374</cp:revision>
  <dc:subject>Sildes do livro</dc:subject>
  <dc:title>Princípios de Análise e Projeto Orientados a Objetos com UML</dc:title>
</cp:coreProperties>
</file>