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C30E-764E-43D1-B87D-A3C31B42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6648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240-5FCD-4505-B306-FC7659DF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40E4-D228-461E-BF6C-D137DF46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7C26-A494-4BAE-A9EB-A117272F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D755-99A0-4273-B9F2-BF5EBE40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67AA-FD80-4644-AA82-076C8F93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D114-B1F9-44C5-8DD2-EF99D263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44D5-0FD2-412A-A894-8AEA44B8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85A2-2219-4392-A4FE-3F93A46A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520" y="27756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C74A-A390-445E-8414-434080BA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95DA-B93A-4901-8E3F-EC1EA4F6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3047-341C-444D-8122-4F218199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168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EDDD-CAD7-4CCE-809A-618F31D4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DD7C-92C0-45A8-9FEE-241A5F75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520" y="396648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1C49-4597-4A2A-9C0D-12853563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168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0F45-A6B1-4B7B-97A6-6310E62E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9040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6920" y="159984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52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9040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6920" y="3966480"/>
            <a:ext cx="2625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F4E5-7A99-4E2B-87FE-ED114969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832-F666-4EC2-AC5F-5BC65172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1B9-24F4-4ECE-950F-18DBEE4F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9BFD-124A-46FD-BB16-B970F583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27756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B930-F59A-4DDD-B04B-AA855E85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149C-BBC8-4DE1-BB7F-4262A801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6648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879-9CB5-475C-A479-118F3872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599840"/>
            <a:ext cx="39787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66480"/>
            <a:ext cx="81532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CC8-3B7B-4355-912D-E8ED1AE3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2121-7A9C-4B34-9FCC-D810F5B6CD14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710D-2765-4BAF-85FB-53D574970840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6000"/>
            </a:br>
            <a:br>
              <a:rPr sz="60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EBC0-5EA3-4F4C-A508-B652A609BB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Sintaxe da UML para mensagen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especificação para o rótulo de uma mensagem deve seguir a seguinte sintax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577960"/>
            <a:ext cx="7848720" cy="459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pressão-seqüência recorrência: v := operação(parâmetr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1400" y="4422600"/>
            <a:ext cx="3889080" cy="703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[’ cláusula-condição ‘]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*’ ‘[’ cláusula-iteração ‘]’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9080" y="3505320"/>
            <a:ext cx="7772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nde o termo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corrênc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ose ser uma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condi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u um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repeti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5508720"/>
            <a:ext cx="7772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único termo obrigatório corresponde à ope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0DB-DB67-4893-AA4E-CB0DB111E1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xemplos (Sintaxe da UML para mensagens)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[para cada f em F] desenhar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*[enquanto x&gt;0] transformar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senha é válida] abrirJanelaPrincipal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: adicionarItem(i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 [a &gt; b]: trocar(a,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 *: desenhar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 *[i := 1..10]: desenhar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.2.1: x := selecionar(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8FA-CA8E-4B9E-824F-CC844A5444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jetivos do modelo de inter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objetivos da construção do modelo de interação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ter informações adicionais para completar e aprimorar outros modelos (principalmente o modelo de clas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is as operações de uma clas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is os objetos participantes da realização de um caso de uso (ou cenário deste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cada operação, qual a sua assinatu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classe precisa de mais atribu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necer aos programadores uma visão detalhada dos objetos e mensagens envolvidos na realização dos casos de us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1FC3-8F46-49AC-ACA9-B2EE5ECE7C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inter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im como os outros diagramas da UML, o diagrama de interação possui um conjunto de elementos gráf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mentos bás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ns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ção de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truição de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B4D-DD0D-456A-AD15-04BE5D6EA9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inter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95280" y="4533840"/>
          <a:ext cx="660420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33840"/>
                    <a:ext cx="660420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914400" y="160020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os são representados em um diagrama de interação utilizando-se a mesma notação gráfica dos diagrama de obje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-se representar objetos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nônim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objetos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nome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dependendo da situ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s também podem ser represent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o caso de mensagens enviadas para a classe em vez de ser enviada para um obj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7025-9B84-447A-8B21-760FB97DF8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Tipos de diagrama de interaçã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á dois tipos de diagrama de inter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agrama de seqü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agrama de comun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diagramas de seqüência e de comunicação são equivalentes entre 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pode ser convertido no ou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855960"/>
            <a:ext cx="7777080" cy="825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 de seqüência: mensagens enviadas no decorrer do t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4935600"/>
            <a:ext cx="7777440" cy="825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 de comunicação: mensagens enviadas entre objetos que estão relacion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6C0-C245-4AF9-90C1-2691E993D9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seqüênc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objetos participantes da interação são organizados na horizo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baixo de cada objeto existe uma linha (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linha de vi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linha de vida possui o seu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foco de contro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o objeto está fazendo al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mensagens entre objetos são representadas com linhas horizontais rotuladas partindo da linha de vida do objeto remetente e chegando a linha de vida do objeto rece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osição vertical das mensagens permite deduzir a ordem na qual elas são env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dem de envio de mensagens em um diagrama de seqüência pode ser deduzida a partir das expressões de seqü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ção e destruição de objetos podem ser represen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2BA9-99E2-4A77-A963-381ECFE80A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Forma geral de diagramas de seqüência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71640" y="2133720"/>
          <a:ext cx="7327800" cy="35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732780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968120" y="28335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68040" y="28526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8880" y="28526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BA6-1EC4-4254-8F4A-A6C9CBB56E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Forma geral de diagramas de seqüênci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044720" y="1700280"/>
          <a:ext cx="727236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1700280"/>
                    <a:ext cx="727236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005840" y="21193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68080" y="2143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73120" y="32097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A25-2FFD-49DF-883C-B07112084E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comunic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amado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agrama de colabor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a UML 1.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ruturalmente, é bastante semelhante a um diagrama de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iferença é que são adicionados setas e rótulos de mensagens nas ligações entre esses obj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ligações (linhas) entre objetos correspondem 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lacionamen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xistentes entre os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ve haver consistência com o diagrama de class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objetos estão distribuídos em duas dimens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ntagem: normalmente permite construir desenhos mais legíveis comparativamente aos diagramas de seqüê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vantagem: não há como saber a ordem de envio das mensagens a não ser pelas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xpressões de seqüênc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ção de envio de mensagem é indicada por uma seta próxima ao rótulo da mensag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4096-ACAF-433E-BB08-6BB041B602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Capítulo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7</a:t>
            </a: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Modelagem de Interaçõ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omente após a construção de diagramas de interação para os cenários de um caso de uso, pode-se ter certeza de que todas as responsabilidades que os objetos devem cumprir foram identific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var Jacobson, 19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AECC-21E2-49CE-95DC-7148685C81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comunica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772400" y="762120"/>
            <a:ext cx="1150920" cy="903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6320" y="5081760"/>
            <a:ext cx="865080" cy="16999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urante a execução de um cenário de caso de uso, objetos podem ser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ri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outros objetos podem ser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estruí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ns objetos podem sobreviver à execução do caso de uso (se conectando a outro objetos); outros podem nascer e morrer durante essa exec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UML define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tiquet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tags) para criação e destruição de objetos ou de ligações entre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new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objetos ou ligações criados durante a int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destroyed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objetos ou ligações destruídos durante a int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transient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objetos ou ligações destruídos e criados durante a int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B58-CD75-4D7A-B0F9-DCD83FB0C4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xemplo de diagrama de comunicaçã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9640" y="2467080"/>
          <a:ext cx="814572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467080"/>
                    <a:ext cx="814572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14400" y="1600200"/>
            <a:ext cx="7905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 de uso da restrição {new}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1AB4-EDC4-4448-A915-6DBC0E41D9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ultiobjet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ltiobje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le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objetos de uma mesma classe.Pode ser utilizado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r o lado muitos de uma associação de conectividade um para mu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r uma lista (temporária ou não) de objetos sendo formada em uma colabo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o: uma mensagem pode ser enviada para a coleção como um todo, em vez de ser enviada para um único objeto da cole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multiobjeto é representado graficamente através de dois retângulos superpo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uperposição dos retângulos evita a confusão com obj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nome do multiobjeto é apresentado no retângulo que fica por cima e segue a mesma nomenclatura utilizada para obj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venção: usar o nome da classe de seus elementos para nomear o multiob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900840" y="168120"/>
            <a:ext cx="1525680" cy="143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2B94-065A-41E1-9A48-6C61FE0C4D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Notação para Multiobje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95280" y="2182680"/>
          <a:ext cx="8388360" cy="35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182680"/>
                    <a:ext cx="838836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C1E-CF9A-47B1-8CCE-3D595B9AB7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Implementação de Multiobje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ltiobjetos são implementados através de classes que manipulem um conjunto de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++: classes (templates) list e set (STL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talk: classe Collect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ava: classes Vector, HashTable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lphi: classe T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mas mensagens típicas para um multiobjeto são as segui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rParaPrimeir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óxim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terior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contrar(umIdentificadorObj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icionar(umObj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mover(umObj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anho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A2C-6734-4791-90A1-1F0AC9385F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Construção de diagramas de interação  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19A3-2232-43E6-9812-BFCFC72E14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Escolhendo entre diagramas de seqüência e de comunicação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 de seqüê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be as mensagens ordenadas no t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visualização fica dificultada conforme o número de objetos cresce (disposição em uma dimensã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 de comunic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be mensagens enfatizando relaciona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lhor utilização do espaço (disposição em duas dimensõ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is adequado para profissionais que estão acostumados à sessões CR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o diagrama de seqüência é equivalente ao diagrama de comunicação, a escolha por um ou outro é mais questão de go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erramentas CASE: transformação automatic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02C9-3844-4034-9C39-26FD6943E2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Procedimento de construçã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cada caso de uso, defina um conjunto de cenários relev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cada cenário definido, faç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icione os atores, objeto de fronteira e objeto de controle no dia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ada passo do cenário selecionado, defina as mensagens a serem enviadas de um objeto a ou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a as cláusulas de condição e de iteração, se existirem, para as mensa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icione multiobjetos e objetos de entidade à medida que a sua participação se faz necessário no cenário selecion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EBC5-D4F8-4513-8D02-F892E1437B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servações sobre o procedi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-406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efinição dos cenários depende da complexidade dos passos do caso de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ção de mensagens com base nas responsabilidades de cada objeto envolvi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nome da mens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argumentos de cada mensagem, se existir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valor de retorno da operação correspondente, se exis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áusulas de condição e de repetição, se existir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aior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s objetos já devem ter sido identificados durante a construção do modelo de classes de domínio (sessões CRC, outras técnic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istência em relação ao modelo de casos de uso e ao contexto utilizado do diagrama de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cenário relevante para cada caso de uso foi consider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5560" indent="-33876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ensagens que um objeto recebe estão consistentes com suas responsabilida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157-017E-42FB-9441-E3C47B5EE5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bservações sobre o procediment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de um controlador podem ser criados em um mesmo caso de uso, dependendo de sua complex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trolador pode mesmo ser suprimido, também em função da complexidade do caso de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mensagens de um ator a um objeto de fronteira normalmente são rotuladas com a informação fornecida (por exemplo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tem de pedido, id e senh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vez de considerar um cenário completo de um caso de uso, pode ser construído um diagrama de interação para um único passo desse caso de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30A-9BD3-4473-8DBD-CBC73A7348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160" y="3352680"/>
            <a:ext cx="930240" cy="2001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modelos vistos até agora fornecem diversas informações sobre o sistema. No entant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objetivo desses modelos é fornecer um entendimento do problema correspondente ao sistema de software a ser desenvolv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 de casos de u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is são as operações que devem ser executadas internamente ao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que classes estas operações pertenc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is objetos participam da realização deste caso de u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B2A-7531-461E-AFC9-6C9D2520C1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Modelo de interações no processo de desenvolvimento de sistemas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700360" y="9810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AFD6-DED2-4733-A554-1CC729D9A8A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interação no PD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utilizados na fase de construção de um ciclo de vida incremental e iter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construídos para os casos de uso alocados para uma iteração desta f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vérsia sobre utilização na análise ou no pro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icialmente (+análise), pode exibir apenas os objetos participantes e mensagens exibindo somente o nome da operação (ou nome da responsabilida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teriormente (+projeto), pode ser ref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ção e destruição de objetos, tipo e assinatura completa de cada mensagem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CDC-2227-4701-967E-9C8CE3851AE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interação no PD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um processo incremental, os modelos evoluem em conju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bora estes modelos representem visões distintas do sistema, eles sã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nterdependentes e complementa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lo de casos de uso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odelo de inte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-36180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enários a serem consid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lo de classes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odelo de inte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-36180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tos iniciais para o modelo de inter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lo de interação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odelo de cla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-36180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talhamento de oper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-36180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talhamento de associ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-36180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perações para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-36180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vos atributos para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-36180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vas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nsideração dos detalhes obtidos durante a construção do modelo de interação fornece informações úteis para transformar 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modelo de classes conceitu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modelo de classes de especific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96DF-C179-42F4-8F48-A2AAAD9577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odelo de interação no PD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68160" y="2025720"/>
          <a:ext cx="8007480" cy="39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2025720"/>
                    <a:ext cx="800748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EDDE-4322-400A-8586-0954AC6B818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320" y="4916520"/>
            <a:ext cx="796680" cy="17128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 de classes de domín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que forma os objetos colaboram para que um determinado caso de uso seja realiz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que ordem as mensagens são enviadas durante esta realiza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 informações precisam ser enviadas em uma mensagem de um objeto a out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á que há responsabilidades ou mesmo classes que ainda não foram identificad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ssões CRC pode ajudar a identificar quais são as responsabilidades de cada objeto e com que outros objetos ele precisa colabor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as sessões CRC não fornecem um modo de documentar essas inter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D26-49EA-4123-B510-C94293917F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responder às questões anteriores, os diagramas de interação devem ser cri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es diagramas  representam mensagens trocadas entre objetos para a execução de cenários dos casos de uso do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nstrução desses diagramas é uma consolidação do entendimento dos aspectos dinâmicos do sistema iniciado nas sessões C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337280"/>
            <a:ext cx="8439120" cy="2288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s de interação representam como o sistema age internamente para que um ator atinja seu objetivo na realização de um caso de uso. A modelagem de um sistema de OO normalmente contém diversos diagramas de interação. O conjunto de todos os diagramas de interação de um sistema constitui o seu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odelo de inter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910-76C4-4FE6-99CC-F945267C75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ensag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6280" y="4343400"/>
            <a:ext cx="8362800" cy="1905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8560" y="432504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mensagem representa a requisição de u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bjeto remet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 u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bjeto recept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que este último execute algum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per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finida para sua clas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a mensagem deve conter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inform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uficiente para que a operação do objeto receptor possa ser execu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incípio básico da interação entre objetos é o conceito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nsag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sistema de OO pode ser visto como uma rede de objetos. Funcionalidades são realizadas pelos objetos, que só podem interagir através do envio de mensag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308-8A26-40FC-A035-A5BAFE3CC8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ensagens </a:t>
            </a:r>
            <a:r>
              <a:rPr b="0" i="1" lang="pt-BR" sz="3800" spc="-1" strike="noStrike">
                <a:solidFill>
                  <a:srgbClr val="330033"/>
                </a:solidFill>
                <a:latin typeface="Times New Roman"/>
              </a:rPr>
              <a:t>versus</a:t>
            </a: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 Responsabilidades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fato de um objeto “precisar de ajuda” indica a necessidade de este enviar mensage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construção de diagramas de interação, mensagens de um objeto a outro implicam em operações que classes devem 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975840"/>
            <a:ext cx="6999480" cy="1557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mensagem implica na existência de uma operação no objeto receptor. A resposta do objeto receptor ao recebimento de uma mensagem é a execução da operação correspond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C258-05D4-46EC-A6E9-C433B22EB2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ensagens </a:t>
            </a:r>
            <a:r>
              <a:rPr b="0" i="1" lang="pt-BR" sz="3800" spc="-1" strike="noStrike">
                <a:solidFill>
                  <a:srgbClr val="330033"/>
                </a:solidFill>
                <a:latin typeface="Times New Roman"/>
              </a:rPr>
              <a:t>versus</a:t>
            </a: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 Responsabilidad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11280" y="1986120"/>
          <a:ext cx="7848360" cy="35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86120"/>
                    <a:ext cx="7848360" cy="35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F9D-BA91-43F9-AC08-825D50FA26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330033"/>
                </a:solidFill>
                <a:latin typeface="Times New Roman"/>
              </a:rPr>
              <a:t>Tipos de mensagen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 de mensagem definidos pela UM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nsagem simpl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utilizada quando a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aturez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a mensagem não é relev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nsagem síncron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indica que o objeto remetente espera que o objeto receptor processe a mensagem antes de recomeçar o seu process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nsagem assíncron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objeto remetent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pera a resposta para prosseguir com o seu process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nsagem de retorn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indica o término de uma ope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22400" y="4267080"/>
          <a:ext cx="554508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0" y="4267080"/>
                    <a:ext cx="554508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79C2-B6C7-4BF5-943D-48654DFCD8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NUPAC - Unidade Ipanema</cp:lastModifiedBy>
  <dcterms:modified xsi:type="dcterms:W3CDTF">2004-11-12T13:25:17Z</dcterms:modified>
  <cp:revision>487</cp:revision>
  <dc:subject>Sildes do livro</dc:subject>
  <dc:title>Princípios de Análise e Projeto Orientados a Objetos com UML</dc:title>
</cp:coreProperties>
</file>