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AC5-B0B9-41CD-A94F-51D93A45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A16-0257-4373-97CC-F7DB125E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090-187E-4F5C-811D-3C80013C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FDC-ADD3-4C64-B2AB-7B627444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E86-F9C8-4CD4-B41E-9FB624D7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0DA1-759F-46F6-B9D3-6B7BCA2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1A3A-46D1-4BD1-8AAF-A4A6BB3E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4A16-3C36-4603-814A-F276F5AD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9209-0E83-44DF-B5C9-4EB836C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CD36-7210-4CC9-B005-10453179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F643-9040-4707-9999-1EAF3A6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332-EFFE-40AC-B311-32B300B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22C7-5D9F-4648-829D-DDE2F907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CCCC-1BB6-4C10-8B5F-0BB7BEA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0B81-C196-4F53-A45C-411A5946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F903-A76E-4291-A8BF-7CC0B213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423-9DD9-4F94-B675-A7F87E88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99B-DA91-4741-8B8D-3117CBAD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EF4-0483-4B40-A8D6-1DCEDC90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8C6-3B0C-4241-A0F9-2C287BAD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8C9-8255-4DD0-A4E1-9C2F0FB0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2C0-D5D1-4C50-A63C-E1ABA9A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908-5F0D-407E-9FC2-33ABD50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974-2F73-4EA6-BDA3-577149D3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6B42-3037-4C31-904E-D568DF6E837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EA1A-BBB2-4BB0-94AB-05D156C64AE9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capa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771560" cy="257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B525-757C-466C-BEDE-56B50FAD34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oper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: um processamento realizado por (um objeto de) um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mos de implementação: é uma rotina associada a uma cl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construção do modelo de interações, operações identificadas na análise são validadas e várias outras operações são identif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s operações devem ser adicionadas ao diagrama de classes e documentadas através da definição de su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sinatu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968-611D-4820-8DED-88EF478F1D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Sintaxe da UML para oper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pecificação completa de um atributo deve seguir a 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565360"/>
            <a:ext cx="882036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isibilidade nome(parâmetros): tipo-retorno {propriedade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9080" y="45529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ibilidade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ncapsul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pode ser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de retorno e dos parâmetros dependentes de linguag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co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op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751200"/>
            <a:ext cx="655344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reção nome-parâmetro: tipo-parâ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3213000"/>
            <a:ext cx="7772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nde, para cada parâmet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509-3228-4570-A2BB-9168181C1E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Exemplos (Sintaxe da UML para operações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1905120"/>
          <a:ext cx="647712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6477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5F0-52A1-4BCC-A773-7E8726A4B3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Qualificadores para parâmet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11280" y="2608200"/>
          <a:ext cx="7772400" cy="2044800"/>
        </p:xfrm>
        <a:graphic>
          <a:graphicData uri="http://schemas.openxmlformats.org/drawingml/2006/table">
            <a:tbl>
              <a:tblPr/>
              <a:tblGrid>
                <a:gridCol w="1496880"/>
                <a:gridCol w="627552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re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âmetro de ent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âmetro de saí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râmetro de entrada e de saí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818-A96B-4FB1-80DE-E624AC6E8C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Operações de criação e destruição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utilizadas freqüentemente nas interações entr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e uma operação de criação servem para iniciar atributos do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 prática: se o valor de um atributo é essencial para o significado do objeto, é mais adequado iniciar o seu valor logo na criação do 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destruição servem para liberar memória alocada dinam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criação são identificadas na construção dos diagramas de inte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criação também são utilizadas para definir o estado inicial de um objeto que passa por um conjunt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ados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relev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urante a sua exist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FAA-19EE-47C2-AB02-9A9BECB458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Seletores e modificador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ípio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ncapsulament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acesso a informações internas a uma classe deve ser realizado através de sua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da pelas operações de visibilidade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ssegurar o encapsulamento da classe, todos os seus atributos com visibilidade privativa ou prote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haver operações para obter acess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ele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para modificar o valo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ific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e cada atrib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nção utiliz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e um seletor é formado com o prefix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bt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seguido do nome do atrib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e um modificador é construído com o prefix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fini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seguido do nome do atrib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sempre faz sentido ter um modificador e um seletor para um atribut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A37-DEAE-4F6D-A42B-F3865AE641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Especificação de associaçõ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84D5-D979-4FC4-93D2-816D394F00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lacionamentos de dependênci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UML, há três tipos de relacionamentos entre ob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oc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neraliz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odelo de classes de domínio, os relacionamentos entre objetos foram identificados como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relacionamento de dependência indica que uma classe depende d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erviç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ornecidos por uma outr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acterísticas de implemen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0F6-8E32-4E48-A415-000260CC43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lacionamentos de dependênci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tipos de dependência entre duas classes podem exis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atribu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variável glob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variável loc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ependência por parâmetr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do através de uma linha direcionada e tracejada ligando as classes envolv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reção é da classe dependent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para a classe da qual ela depend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ornecedo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reótipos: global, local,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44480" y="5535720"/>
          <a:ext cx="75549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535720"/>
                    <a:ext cx="7554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4B9-A05D-4E3A-A31A-12CAB0A121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5080"/>
          <a:ext cx="8317080" cy="29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575080"/>
                    <a:ext cx="831708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31F-E82C-4993-A8AB-FFE4D85024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 8</a:t>
            </a: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pt-BR" sz="4000" spc="-1" strike="noStrike">
                <a:solidFill>
                  <a:srgbClr val="330033"/>
                </a:solidFill>
                <a:latin typeface="Times New Roman"/>
              </a:rPr>
              <a:t>Especificação de Classes, Propriedades e Associações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fection (in design) is achieved not when there is nothing more to add, but rather when there is nothing more to take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 Raymond, The Cathedral and the Baz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86CF-D805-4E3C-B1D5-A3D5F751A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dependência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passagem para o modelo de especificação cada associação deve ser considerada para identificar se ela pode ser transformada em dependê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zão: aumentar o encapsulamento da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ência por atributo torna as classes envolvidas mais dependentes uma da ou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enos dependências estruturais houver no modelo de classes, maior é o encapsulamento das classes constitui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ções entre classes de fronteira e control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de fronteira para esse ator: essa classe pode manter um relacionamento estrutural com o controlador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mposi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s de fronteira para equipamentos ou outros sistemas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terfaces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endência não estrut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394-4711-42C6-A1DC-4E988C6684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de agregação na modelagem de classes de dom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: utilização de agregação somente durante o modelo de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qualquer um dos casos, o que deve ser considerado é que a agregação possui uma forma ainda mais forte,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finição de composições é mais adequada para o modelo de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FD2-7A7F-4752-9E88-B8CFBE048D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agreg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objetos que fazem parte do todo são criados e destruídos independentemente deste últ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objeto parte pode ser utilizado para compor diversos objetos to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struição de um desses objetos todo não implica na destruição do objeto p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compos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objet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r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ertencem a um únic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 parte são sempre criados e destruídos pelo objeto t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ualmente os clientes do objeto todo não têm conhecimento da estrutura das 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objeto composto, são definidas operações para adicionar e remover objeto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DBE-6087-4C64-8DB9-BD28A6D530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87280" y="1773360"/>
          <a:ext cx="67694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7694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637-32F9-4E2E-AF9B-972B794585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agregações ou composi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76440" y="2774880"/>
          <a:ext cx="520236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2774880"/>
                    <a:ext cx="520236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33520" y="1600200"/>
            <a:ext cx="8065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te que composições (agregações) podem se estender por diversos níveis, forman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erarquias de composi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greg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58920" y="5565600"/>
          <a:ext cx="7489800" cy="6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5565600"/>
                    <a:ext cx="748980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157-0409-4C00-B1FA-8934F6B421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Transformação de associações em composi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5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geral, em uma agregação (composição), o todo tem prioridade para criar suas par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2708280"/>
          <a:ext cx="8532720" cy="35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08280"/>
                    <a:ext cx="8532720" cy="35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F07-3EB6-448C-8197-BF92FE79A7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strições sobre associaçõ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trições podem ser adicionadas sobre uma associação para condicionar a forma pela qual a associação deve ser implement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as das restrições sobre associações predefinidas pela UML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bs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subconju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u exclusiv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52280" y="4667400"/>
          <a:ext cx="40388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667400"/>
                    <a:ext cx="40388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181480" y="4770360"/>
          <a:ext cx="3733920" cy="18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770360"/>
                    <a:ext cx="37339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40F-0FD6-4207-B95C-872D020917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avegabilidade de associa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ções, agregações e composições podem se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dire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nidire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ssociação bidirecional indica que há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hecimento mút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os objetos associ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UML, associações são, por omissão, navegáveis em ambos os senti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ssociação unidirecional é representada adicionando-se um sentido à seta da associ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modelo de classes de especificação, a navegabilidade de todas as associações deve ser defin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gumas associações permanecem bidire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houver essa necessidade, recomenda-se transformar a associação em unidire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7F4-171E-45DD-B9B3-4BCCB08B65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avegabilidade de associações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19000" y="4125960"/>
          <a:ext cx="757404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4125960"/>
                    <a:ext cx="757404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3352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colha do sentido da navegabilidade pode ser feita através dos diagramas de inte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sagens influenciam na existência ou não de navegabilidade em um sent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042-C4AD-4EF0-B6BD-584850B67B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efinindo a implementação de associ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ssociações de conectividade um para um, a implementação é trivial: é definido um atributo do tipo Cb na classe 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bilidade bidirecional: aplica-se o  procedimento acima para as dua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nto, em associações um para um, não há necessidade de um refinamento adicional do diagrama d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ssociações de conectiv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talhes adicionais podem ser representados para esclarecer como implementar tais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etalhamento de associações se baseia em classes que representa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leções de ele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4FF-C93B-42C5-86E6-9DDB07A5AC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 de classes de especif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resultante de refinamentos no modelo de classes de domí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modelo é construído em paralelo com o modelo de inter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sua construção, o modelo de especificação é passado aos programadores para que eles o implemen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s a serem consid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nsformação de classes de domínio em classes de espec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ção de novas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e atrib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e oper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ção de assoc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66A-F7C1-4EF3-A094-8A1B9D2CF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Classe Parametriza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leção pode ser representada em um DC através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parametriz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empl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classe é utilizada para definir outras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operações ou atributos cuja definição é feita em função de um ou mais parâme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leção pode ser definida a partir de uma classe parametrizada, onde o parâmetro é o tipo do elemento da col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duas notações possíveis na UML para uma classe parametriz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classe parametriza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s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5880240"/>
          <a:ext cx="660240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880240"/>
                    <a:ext cx="66024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9A7-8134-4054-88FF-DADF4DC569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associações de conectividade um para mui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parametrizadas podem ser utilizadas para detalhar associaçõ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déia bás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finir uma classe parametrizada cujo parâmetro é a classe correspondente ao lad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ui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associ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aso muitos para muitos é bastante semelhante ao refinamento das associações um para mu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tilização da classe parametrizada resulta na transformação de uma associ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uma associaçã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para u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91E2-E89B-486D-9715-4B46CD61D4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associações de conectividade um para mui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600200"/>
            <a:ext cx="77724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s alternativas para representar uma associação um para muit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16000" y="2535120"/>
          <a:ext cx="889308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535120"/>
                    <a:ext cx="889308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rot="5220000">
            <a:off x="3096360" y="4975920"/>
            <a:ext cx="574560" cy="1944720"/>
          </a:xfrm>
          <a:custGeom>
            <a:avLst/>
            <a:gdLst>
              <a:gd name="textAreaLeft" fmla="*/ 76680 w 574560"/>
              <a:gd name="textAreaRight" fmla="*/ 497880 w 57456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5435640" y="4797360"/>
            <a:ext cx="504720" cy="2089440"/>
          </a:xfrm>
          <a:custGeom>
            <a:avLst/>
            <a:gdLst>
              <a:gd name="textAreaLeft" fmla="*/ 67320 w 504720"/>
              <a:gd name="textAreaRight" fmla="*/ 437400 w 504720"/>
              <a:gd name="textAreaTop" fmla="*/ 365400 h 2089440"/>
              <a:gd name="textAreaBottom" fmla="*/ 15148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CA5-F83C-44CB-9E55-108D2B0C96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associações de conectividade muitos para mui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00120" y="2216160"/>
          <a:ext cx="709920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2216160"/>
                    <a:ext cx="709920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42920" y="2637000"/>
            <a:ext cx="433440" cy="2736720"/>
          </a:xfrm>
          <a:custGeom>
            <a:avLst/>
            <a:gdLst>
              <a:gd name="textAreaLeft" fmla="*/ 57960 w 433440"/>
              <a:gd name="textAreaRight" fmla="*/ 375480 w 433440"/>
              <a:gd name="textAreaTop" fmla="*/ 540720 h 2736720"/>
              <a:gd name="textAreaBottom" fmla="*/ 192240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35" stAng="-5400000" swAng="-5400000"/>
                <a:lnTo>
                  <a:pt x="0" y="10905"/>
                </a:lnTo>
                <a:arcTo wR="21600" hR="8535" stAng="10800000" swAng="-2890751"/>
                <a:lnTo>
                  <a:pt x="14400" y="21112"/>
                </a:lnTo>
                <a:lnTo>
                  <a:pt x="21600" y="18255"/>
                </a:lnTo>
                <a:lnTo>
                  <a:pt x="14400" y="14422"/>
                </a:lnTo>
                <a:lnTo>
                  <a:pt x="14400" y="16582"/>
                </a:lnTo>
                <a:arcTo wR="21600" hR="8535" stAng="7909249" swAng="2700502"/>
                <a:lnTo>
                  <a:pt x="209" y="9720"/>
                </a:lnTo>
                <a:arcTo wR="21600" hR="8535" stAng="-10609751" swAng="5209751"/>
                <a:close/>
              </a:path>
              <a:path fill="darkenLess" w="21600" h="21600">
                <a:moveTo>
                  <a:pt x="21600" y="0"/>
                </a:moveTo>
                <a:arcTo wR="21600" hR="8535" stAng="-5400000" swAng="-5400000"/>
                <a:lnTo>
                  <a:pt x="0" y="8535"/>
                </a:lnTo>
                <a:arcTo wR="21600" hR="8535" stAng="10800000" swAng="-190249"/>
                <a:lnTo>
                  <a:pt x="209" y="9720"/>
                </a:lnTo>
                <a:arcTo wR="21600" hR="8535" stAng="-10609751" swAng="5209751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835280" y="3645000"/>
            <a:ext cx="5400720" cy="276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BAB-34C7-4AB8-8B51-6940A48E74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Refinando classes associativas, associações ternária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olução mais usual é criar uma classe de especificação para substituir a classe associ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vez feito isso, o problema se transforma no refinamento de associações um para muitos ou muitos para mu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procedimento pode ser aplicado em associações terná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5F4-8F8D-4AD7-A4EB-72F4548C15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finando classes associativas, associações ternária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5640" y="2021040"/>
            <a:ext cx="8291520" cy="3784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6200000">
            <a:off x="4536360" y="4688640"/>
            <a:ext cx="504720" cy="3170160"/>
          </a:xfrm>
          <a:custGeom>
            <a:avLst/>
            <a:gdLst>
              <a:gd name="textAreaLeft" fmla="*/ 67320 w 504720"/>
              <a:gd name="textAreaRight" fmla="*/ 437400 w 504720"/>
              <a:gd name="textAreaTop" fmla="*/ 554760 h 3170160"/>
              <a:gd name="textAreaBottom" fmla="*/ 2298600 h 317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CC4-CE2C-4210-9156-D6A49D66E4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classes de fronteir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análise, considera-se que há uma única classe de fronteira para cada 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passagem para o modelo de especificação, algumas dessas classes podem resultar em várias ou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face como seres humanos: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ojeto da interface gráf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roduz o detalhamento das 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pamentos: uma ou mais classes para encapsular o protocolo de comunicação do equip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mesmo vale para comunicação com outro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também usual a definiçã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ubsist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representar a comunicação com ou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uso de classes para se obter alta produtividade e boa qualidade no produto de software em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nentes podem ser adquiridos já pro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s fornecidos pelo ambiente de programação sendo uti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C6B-2A53-4146-8B14-2BA1985158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classes de entidad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precisam de armazenamento per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lasses de entidades que devem ser armazenadas de modo persistente devem ser identificadas na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vem ser identificados os padrões de acesso a cada classe de entidade cujos objetos devem ser pers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xa de acesso a uma coleção influencia na política de armazen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A5F-6C3E-4814-AA96-49ADA71DD2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pecificação de classes de contro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especificação, deve-se analisar a verdadeira utilidade de cada classe de controle identificada durante a anál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sos de uso simples (e.g., manutenção de dados), classes de controle não são realmente necessá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s de fronteira podem repassar os dados fornecidos pelos atores diretamente para as classes de entidade correspond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asos de uso complexos, uma classe de controle de análise pode resultar em duas ou mais classes de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438-4E2F-47E9-A52D-FCAA50224A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Especificação de atributos  e operaçõe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6086-9948-4D65-9CDE-73A46800C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Sintaxe da UML para atributo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pecificação completa de um atributo deve seguir a sintax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565360"/>
            <a:ext cx="784872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visibilidade nom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: tipo = valor-in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9080" y="3544920"/>
            <a:ext cx="77724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ibilidade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ncapsul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pode ser u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e valor inicial dependentes de linguag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ribut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e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sco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atribu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A07-F2B0-47DE-AAF0-A19FD2CC7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330033"/>
                </a:solidFill>
                <a:latin typeface="Times New Roman"/>
              </a:rPr>
              <a:t>Exemplos (Sintaxe da UML para atributos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19520" y="1700280"/>
          <a:ext cx="41148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00280"/>
                    <a:ext cx="4114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8360" y="4854600"/>
          <a:ext cx="84596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854600"/>
                    <a:ext cx="8459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98B-BE1A-4BE8-9281-B54E7594E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NUPAC - Unidade Ipanema</cp:lastModifiedBy>
  <dcterms:modified xsi:type="dcterms:W3CDTF">2004-11-12T13:33:29Z</dcterms:modified>
  <cp:revision>495</cp:revision>
  <dc:subject>Sildes do livro</dc:subject>
  <dc:title>Princípios de Análise e Projeto Orientados a Objetos com UML</dc:title>
</cp:coreProperties>
</file>