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CB50-E2F0-4675-8FC6-69B883809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D596-3CF0-4CE3-9BCF-802B2C35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F964-A8D7-4460-A3D0-D1E87BF73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2120-5608-4246-8093-3FB3342C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D782-DC2B-4463-A374-45E7ED93C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C4C0-F79A-44EB-853D-DB4F44A0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77A1-CEB6-49FF-8488-BF96D06D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85B2-9D69-4845-97F7-C8A85AD3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1F55-3CB4-42E9-83B5-8C062DE9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C496-EBE5-453E-B527-39505136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73FC-26EF-445D-91F0-8566C8A2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02D1-48FD-4905-B544-BB48EF46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FA0A-21D6-4BC5-91F4-91B0EBF4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2A24-3430-444E-BC2C-44D86919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8815-85FC-499F-B2CF-5F60A29A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9473-C2E0-40DA-8264-D535562F6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387C-2D31-4EC8-B7FF-06A1A69E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ADB9-388F-438C-B954-5DC147ED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8357-B459-4F1F-99F1-FA1A0E69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7C2C-AA41-4B26-845E-E4CEC2CF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BBA4-5DF4-4265-B1C4-A569EA8A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0332-4B52-4F2F-917B-0990A2A6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CC4B-5A58-48B6-BF72-87A2E093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1E98-202A-4853-B96C-C05CFD89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D8EB-821C-46B2-AF0D-901019DEACE0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533520" y="1316160"/>
            <a:ext cx="7598880" cy="281160"/>
            <a:chOff x="533520" y="1316160"/>
            <a:chExt cx="7598880" cy="281160"/>
          </a:xfrm>
        </p:grpSpPr>
        <p:sp>
          <p:nvSpPr>
            <p:cNvPr id="7" name=""/>
            <p:cNvSpPr/>
            <p:nvPr/>
          </p:nvSpPr>
          <p:spPr>
            <a:xfrm>
              <a:off x="533520" y="1412640"/>
              <a:ext cx="7543800" cy="76320"/>
            </a:xfrm>
            <a:prstGeom prst="rect">
              <a:avLst/>
            </a:prstGeom>
            <a:gradFill rotWithShape="0">
              <a:gsLst>
                <a:gs pos="0">
                  <a:srgbClr val="868fd0"/>
                </a:gs>
                <a:gs pos="100000">
                  <a:srgbClr val="afb4df"/>
                </a:gs>
              </a:gsLst>
              <a:lin ang="10800000"/>
            </a:gra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4100000">
              <a:off x="7896960" y="1332720"/>
              <a:ext cx="169920" cy="247680"/>
            </a:xfrm>
            <a:prstGeom prst="triangle">
              <a:avLst>
                <a:gd name="adj" fmla="val 0"/>
              </a:avLst>
            </a:prstGeom>
            <a:solidFill>
              <a:srgbClr val="868fd0"/>
            </a:soli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6D9F-89BC-45B8-ACC6-930667EFE896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Princípios de Análise e Projeto Orientados a Objetos com UML</a:t>
            </a: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6000"/>
            </a:br>
            <a:br>
              <a:rPr sz="6000"/>
            </a:b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94320" y="1401840"/>
            <a:ext cx="46080" cy="12600"/>
          </a:xfrm>
          <a:prstGeom prst="ellipse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64000" y="779400"/>
            <a:ext cx="38160" cy="7920"/>
          </a:xfrm>
          <a:prstGeom prst="rect">
            <a:avLst/>
          </a:prstGeom>
          <a:solidFill>
            <a:srgbClr val="fbfb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ardo Bezerr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dito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M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capa" descr=""/>
          <p:cNvPicPr/>
          <p:nvPr/>
        </p:nvPicPr>
        <p:blipFill>
          <a:blip r:embed="rId1"/>
          <a:stretch/>
        </p:blipFill>
        <p:spPr>
          <a:xfrm>
            <a:off x="457200" y="4038480"/>
            <a:ext cx="1771560" cy="257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B3DE-CDCB-4426-9A56-72599840735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Herança de associaçõe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76124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ributos e operações e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associaçõ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são herdados pelas subcla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71640" y="3164040"/>
          <a:ext cx="7848360" cy="26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164040"/>
                    <a:ext cx="7848360" cy="26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634C-1A71-47D8-9123-914D51B137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6341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Hierarquias de generalização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02FC-7F21-4827-916C-725A6318D0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Hierarquias de generaliz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generalização pode ser aplicada em vários níveis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hierarquia de generaliz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classe que herda propriedades de uma outra classe pode ela própria servir como superclas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racterísticas importa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Transitivi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uma classe em uma hierarquia herda propriedades e relacionamentos de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tod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s seus ancestrais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Assimetr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dadas duas classes A e B, se A for uma generalização de B, então B não pode ser uma generalização de A. Ou seja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n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ode haver ciclos em uma hierarquia de generaliz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A079-B290-4E2C-96BD-EADCA6EB42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Hierarquias de generaliz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619280" y="1916280"/>
          <a:ext cx="5473800" cy="46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916280"/>
                    <a:ext cx="547380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2CCE-777B-4530-BF36-5F036004E2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Herança múltipla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D9E2-753E-4D61-9F28-245FDB99CB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Herança múltipla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Herança múltipla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Uma classe pode ter mais de uma superclas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l classe herda de todas a suas super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uso de herança múltipla deve ser evi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se tipo de herança é difícil de ente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umas LPs não dão suporte à implementação desse tipo de herança (Java e Smalltalk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81BF-9A52-4B20-ABA0-20FD7BC691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xemplo (Herança múltipla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700360" y="2924280"/>
          <a:ext cx="411804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924280"/>
                    <a:ext cx="411804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52B6-E82B-405A-AA55-40E72E1591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Classes abstratas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69A4-0E65-4ECA-A73A-2589DB9630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Relacionamentos de dependência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sualmente, a existência de uma classe se justifica pelo fato de haver a possibilidade de gerar instâncias (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classes concreta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entanto, podem existir classes que não geram instâncias diretas: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classes abstrata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tilizadas para organizar e simplificar uma hierarquia de generaliz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riedades comuns a diversas classes podem ser organizadas e definidas em uma classe abstrata a partir da qual as primeiras herd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ubclasses de uma classe abstrata também podem ser abstratas, mas a hierarquia deve terminar em uma ou mais classes concret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27C1-DC2C-41E6-ADF9-2E9F2598DD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Notação para classes abstrat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982880" y="2852640"/>
          <a:ext cx="5253120" cy="26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2880" y="2852640"/>
                    <a:ext cx="5253120" cy="26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914400" y="1600200"/>
            <a:ext cx="77724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UML, uma classe abstrata é representada com o seu nome em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itálic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1A1D-A8EC-4E05-AEE7-212C48FE98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Capítulo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9</a:t>
            </a: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pt-BR" sz="5400" spc="-1" strike="noStrike">
                <a:solidFill>
                  <a:srgbClr val="330033"/>
                </a:solidFill>
                <a:latin typeface="Times New Roman"/>
              </a:rPr>
              <a:t>Generalização 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e eu vi mais longe que outros, é porque eu me apoiei nos ombros de gig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saac New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7BC4-4D7B-48C6-97D1-33AC50397F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Definição de restrições sobre uma generalização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3990-E24B-4890-ABA4-525020328C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Restrições sobre generalizaçõ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83432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strições sobre generalizações são representadas (entre chaves) no diagrama de classes próximas à linha do relaciona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strições predefinidas pela UM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obrepo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sju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pl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compl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92360" y="3481560"/>
            <a:ext cx="1727280" cy="865080"/>
          </a:xfrm>
          <a:prstGeom prst="rect">
            <a:avLst/>
          </a:prstGeom>
          <a:solidFill>
            <a:srgbClr val="ccffcc">
              <a:alpha val="51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92360" y="4397400"/>
            <a:ext cx="1727280" cy="865080"/>
          </a:xfrm>
          <a:prstGeom prst="rect">
            <a:avLst/>
          </a:prstGeom>
          <a:solidFill>
            <a:srgbClr val="ccffcc">
              <a:alpha val="51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1506-21B0-496E-BDBA-57F002FF5D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xemplos (Restrições sobre generalizações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187280" y="1727280"/>
          <a:ext cx="3138480" cy="18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27280"/>
                    <a:ext cx="3138480" cy="18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5076720" y="1708200"/>
          <a:ext cx="3610080" cy="186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1708200"/>
                    <a:ext cx="361008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258920" y="4076640"/>
          <a:ext cx="3100320" cy="175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58920" y="4076640"/>
                    <a:ext cx="3100320" cy="17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5148360" y="4005360"/>
          <a:ext cx="3500280" cy="18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48360" y="4005360"/>
                    <a:ext cx="3500280" cy="18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4643280" y="1628640"/>
            <a:ext cx="0" cy="496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3789360"/>
            <a:ext cx="87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F9A6-87E5-4F78-9ABC-04183D8234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Refinando o modelo de classes com generalização 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3616-734A-4051-A1A2-ECE239056F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Refinando o modelo de classes com generalizaçã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generalização permite refinar o modelo de cla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Idéia básic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identificar abstrações mais genéricas ou mais específicas que out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finamentos podem seguir segundo duas estratégias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alternativa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complementar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Generaliz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criar uma classe mais genérica, e definir as classes semelhantes como sub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Especializ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criar classes mais específicas a partir de uma classe preexist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13C9-D671-4E53-A1A7-F0B7B5669F1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Refinando o modelo de classes com generalizaçã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seguinte teste pode ser realizado para identificar se duas classes X e Y se relacionam por generalizaçã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Regra da substitui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 seja a classe A uma generalização de outra B. Não pode haver diferenças entre utilizar instâncias de B ou de A, do ponto de vista dos usuários de 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u seja, é inadequado o uso de generalização onde nem todas as propriedades da superclasse fazem sentido para a subcla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48000" y="2887560"/>
            <a:ext cx="3095640" cy="4597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 é um tipo de Y?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392E-C486-4C6A-B93E-02D71531A9D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Conformidade das subclasses à superclasse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11280" y="2143080"/>
          <a:ext cx="8353440" cy="34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43080"/>
                    <a:ext cx="8353440" cy="34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6E9B-F227-4142-8247-FC8160180CD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c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ve-se evitar a construção de hierarquias de generalização muito profundas (com mais de três níve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ficultam a leitura do diagr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Papéi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subclass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não devem ser confund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papel corresponde ao uso de uma certa classe em uma associação.Uma classe pode assumir vários papé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modelador deve evitar a criação de subclasses em situações que podem ser resolvidas através da utilização de papé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AB69-05F6-49E6-A776-306FD538330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Papel X Subclasse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68360" y="2455920"/>
          <a:ext cx="8388360" cy="28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455920"/>
                    <a:ext cx="838836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F1A0-FD3E-48B2-939F-984712BE753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Herança de operações e polimorfismo  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B73D-4592-4D8E-8B3F-80649DA57DA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ntrodu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modelo de classes também pode representar relacionamentos entre cla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ses denotam relações de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generalidad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especificidad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ntre as classes envolv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conceit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amífer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mais genérico que o conceit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er human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conceit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arr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mais específico que o conceit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veícu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hamado de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relacionamento de generaliz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E947-C5B1-4174-815F-0CB9301B0A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Herança de operações e polimorfism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subclasse herda todas as propriedades de sua superclasse que tenham visibilidade pública ou proteg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ntretanto, pode ser que o comportamento de alguma operação herdada seja diferente para a subclas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sse caso, a subclasse deve redefinir o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mportamen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a oper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ssinatur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a operação pode ser reutiliz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implement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a operação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éto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é difer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6C9C-E9E6-458F-B028-8EFE67F93E2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Operações polimórfic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Operações polimórfica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são operações de mesma assinatura definidas em diversos níveis de uma hierarquia de generalização e que possuem comportamento difer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sinatura é repetida na(s) subclasse(s) para enfatizar a redefinição de implement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perações polimórficas implementam o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princípio do polimorfism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no qual duas ou mais classes respondem a mesma mensagem de formas difer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bjetivo: garantir que as subclasses tenham uma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interfac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m com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CDC1-FBD9-4A42-960E-FCAC6507954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Operações polimórfic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perações polimórficas facilitam a implement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duas ou mais subclasses implementam a mesma operação polimórfica, a mensagem a ser passada é a mesma para todas e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remetente da mensagem não precisa saber qual a verdadeira classe de cada objeto, pois eles aceitam a mesma mensag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diferença é que o 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éto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que implementa a operação é diferente em cada clas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4F7E-A4F7-402E-B8E7-1F545475548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xemplo (Operações polimórficas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84360" y="2009880"/>
          <a:ext cx="8208720" cy="37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009880"/>
                    <a:ext cx="8208720" cy="37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57CC-33DD-4E0E-807D-0CF849E59A8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Operações abstratas e polimorfismo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termos de operações, uma classe é abstrata quando ela possui pelo menos um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operação abstrat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operação abstrata não possui implement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classe pode possuir tanto operações abstratas quanto operações concre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classe que possui pelo menos uma operação abstrata é abstr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subclasse que herda uma operação abstrata e não fornece uma implementação é ela própria abstr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EDBD-F5C9-4251-AF39-017B358BBE0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Operações abstratas e polimorfismo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826920" y="2852640"/>
          <a:ext cx="7993080" cy="26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852640"/>
                    <a:ext cx="7993080" cy="26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914400" y="1600200"/>
            <a:ext cx="77724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 classes Círculo e Quadrado são concretas, pois fornecem implementação para a operação abstrata herd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336F-1836-4033-A706-C0C8C91A331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Operações abstratas e polimorfismo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11280" y="2525760"/>
          <a:ext cx="7777080" cy="34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525760"/>
                    <a:ext cx="7777080" cy="34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914400" y="1600200"/>
            <a:ext cx="77724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lasses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taCorrent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taPoupanç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redefinem a operação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plicarJur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21DF-19CF-42C8-9159-676BB15B34C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Reuso através de delegação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15BE-994E-4448-9FA6-4F6EB5D5114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Reuso por generaliz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reuso por generalização se baseia na noção de subclasses herdando comportamento de sua superclas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: um objeto ContaCorrente não tem como atender à mensagem para executar a operação debitar só com os recursos de sua classe. Ele, então, utiliza a operação herdada da supercla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ntagem: fácil de implemen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vantag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posição dos detalhes da superclasse às subclasses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rincípio do encapsulamen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ssível violaçào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do Princípio de Liskov (regra da substituição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D996-83E0-415B-B88E-3C57B9F5CF3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uso por deleg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delegação é outra forma de realizar o re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mpre que um objeto não pode realizar uma operação por si próprio, ele delega uma parte dela para outro(s) objeto(s)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delegação é mais genérica que a generaliz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objeto pode reutilizar o comportamento de outro sem que o primeiro precise ser uma subclasse do segu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DA45-EAE1-4A62-B520-4B1F456FAEE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ntrodu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ambém pode ser chamado de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relacionamento de especializ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pois a generalização e a especialização são dois pontos de vista do mesmo relaciona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term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heranç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também é comumente utilizado como sinônimo do relacionamento de generalização. (implementaçã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generalização pode ser utilizada tanto no modelo de classes de domínio quanto no de especific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FE4B-1C3C-4860-B31F-DBD5D2930B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uso por deleg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compartilhamento de comportamento e o reuso podem ser realizados em tempo de execu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empenho (implica em cruzar a fronteira de um objeto a outro para enviar uma mensag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pode ser utilizada quando uma classe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arcialmente abstrat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stá envolv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DB78-62D8-470D-9053-86E608E84A8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eneralização X Deleg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24000" y="2293920"/>
          <a:ext cx="8532720" cy="329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293920"/>
                    <a:ext cx="8532720" cy="32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C1EB-AB45-4F4D-8C69-86A3DF86E30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eneralização X Deleg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á vantagens e desvantagens tanto na generalização quanto na deleg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 forma geral,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n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é recomendado utilizar generalização nas seguintes situa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representar papeis de uma supercla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a subclasse herda propriedades que não se aplicam a e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um objeto de uma subclasse pode se transformar em um objeto de outra subcla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Por exemplo, um objeto Cliente se transforma em um objeto Funcionário (vide a seguir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D883-5071-40E0-82DC-ED8BE703881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Classificação dinâmica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0582-72D4-453B-B91D-554C83D5F2F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lassificação dinâm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blema na especificação e implementação de uma generaliz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mesmo objeto pode pertencer a múltiplas classes simultaneamente, ou passar de uma classe para out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sidere uma empresa em que há empregados e cli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ser que uma pessoa, em um determinado momento, seja apenas clie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pois pode ser que ela passe a ser também um empregado da empr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seguir essa pessoa é desligada da empresa, continuando a ser cl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778B-D313-4B5A-B3DF-10F33D927A9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lassificação dinâm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 principais LPOO (C++, Java, Smalltalk) não dão suporte direto à implementação da classificação dinâm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um objeto é instanciado como sendo de uma classe, ele não pode pertencer posteriormente a uma outra cla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olução parcial: definir todas as possíveis subclasses em uma determinada situ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 (para a situação descrita há pouco): as classes Empregado, Cliente e EmpregadoCliente seriam cri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19E9-CF1E-4AB2-A157-4D9C35DDB94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lassificação dinâm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ão resolve o problema to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ser que um objeto mude de classe!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etamorfos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adição de novas classes à hierarquia torna o modelo ainda mais complex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melhor solução: utilizar a deleg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generalização entre cada subclasse e a superclasse é substituída por uma composi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 no próximo sl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8B19-D63F-4D03-BECF-D389F7B30BA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lassificação dinâm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79280" y="2193840"/>
          <a:ext cx="8604360" cy="303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193840"/>
                    <a:ext cx="8604360" cy="30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 rot="16200000">
            <a:off x="4787280" y="3572640"/>
            <a:ext cx="504720" cy="4681440"/>
          </a:xfrm>
          <a:custGeom>
            <a:avLst/>
            <a:gdLst>
              <a:gd name="textAreaLeft" fmla="*/ 67320 w 504720"/>
              <a:gd name="textAreaRight" fmla="*/ 437400 w 504720"/>
              <a:gd name="textAreaTop" fmla="*/ 819000 h 4681440"/>
              <a:gd name="textAreaBottom" fmla="*/ 3394080 h 46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78D1-3C95-49B4-A5A9-FC0E01882A0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lassificação dinâm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entário final: nada impede que haja uma hierarquia de classes em um modelo de domínio onde um objeto possa pertencer a mais de uma subclasse, ou possa mudar de subclas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modelo de especificação é que o modelador deve considerar a reestruturação da hierarquia de classes para resolver o probl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2133-E603-447D-8AC8-5B3CDECE0A2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Introdução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D32F-BAA9-45B7-B7A0-641F242F1E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Semântica de uma generalização,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F79F-C207-4713-935B-12C50C7231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Terminologia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ubclass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uperclass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upertip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ubtip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classe bas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classe herdeir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lasse d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especializ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X classe d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generaliz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ancestra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descendent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generalização em vários níve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C874-D6DA-43C3-8CD9-E990F35CAF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Notação para generaliz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84360" y="2924280"/>
          <a:ext cx="8028000" cy="16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924280"/>
                    <a:ext cx="8028000" cy="16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A958-9C74-4603-8BB5-E6F9AFB287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Generalização X Associaçã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mportante: a generalização difere da associação (agregação, composição ) porque a primeira se trata de um relacionamento </a:t>
            </a:r>
            <a:r>
              <a:rPr b="0" i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entre class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rentes são tipos especiais de funcionário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rentes chefiam departamento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associação, objetos específicos de uma classe se associam entre si ou com objetos específicos de outras class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A568-7FA6-421B-A1F1-82106C0790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2T21:30:00Z</dcterms:created>
  <dc:creator>Eduardo Bezerra</dc:creator>
  <dc:description/>
  <dc:language>en-US</dc:language>
  <cp:lastModifiedBy>NUPAC - Unidade Ipanema</cp:lastModifiedBy>
  <dcterms:modified xsi:type="dcterms:W3CDTF">2004-11-12T13:36:15Z</dcterms:modified>
  <cp:revision>522</cp:revision>
  <dc:subject>Sildes do livro</dc:subject>
  <dc:title>Princípios de Análise e Projeto Orientados a Objetos com UML</dc:title>
</cp:coreProperties>
</file>