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9D8-C3FA-4B67-954B-FF7EA2A2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9280" y="3966480"/>
            <a:ext cx="8147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44D-BA6B-4E3B-9FF2-D8F671D1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384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3840" y="396648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339-4028-479E-A2FC-7D4B3AE0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4000" y="159984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080" y="159984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9280" y="396648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4000" y="396648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080" y="396648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CA24-ED54-4817-9F92-A371A4E1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C4A6-E0BC-47B1-8C07-72CFF78C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57A7-197D-4A38-B3DA-8F13D017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565C-33E4-44EE-9584-70292603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975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840" y="1599840"/>
            <a:ext cx="3975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4AD2-4789-412C-A2B5-2AE613A1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DF1E-6C47-49E5-9689-D89F527E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9280" y="277560"/>
            <a:ext cx="8147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5366-2050-4493-A39C-B6608A35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840" y="1599840"/>
            <a:ext cx="3975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43A6-4BE8-43FB-B3F8-29127C95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7A12-F8A8-4A6B-B70E-011A4D91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975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84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3840" y="396648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A1EF-D135-4B7D-A54D-2CE13394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84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8147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36F2-06AE-4523-B7E9-79436D08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9280" y="3966480"/>
            <a:ext cx="8147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ECBC-C31B-41D2-AEE6-48A06171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84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3840" y="396648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1D35-B654-4470-ABBA-143492D6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4000" y="159984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080" y="159984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9280" y="396648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4000" y="396648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080" y="3966480"/>
            <a:ext cx="26233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A7E2-2FBF-4DC6-BCBB-8B392D0F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C683-FB72-4F76-B40B-C1D6268B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975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3840" y="1599840"/>
            <a:ext cx="3975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1F78-5E97-41E6-BD66-04FC9958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ADB-AB00-40B9-AE96-C3619A8C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9280" y="277560"/>
            <a:ext cx="8147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8FFC-65F3-4021-93A6-D75F5D07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840" y="1599840"/>
            <a:ext cx="3975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D59-512F-4453-AE67-F4132465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975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84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3840" y="396648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35D9-891F-45F0-BC97-CDADD7B5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3840" y="1599840"/>
            <a:ext cx="39754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8147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296-4C4D-4336-A79C-19966BFD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7150-E8D7-4C1C-8D64-18EBDD9DB0FB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AB53-9232-468D-93FA-D829526ABA10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0" y="1143000"/>
            <a:ext cx="64184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1771560" cy="257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B957-6B54-45CD-93EB-4B64FEE461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Tipos de Evento (cont.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vento de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orresponde à passagem de um intervalo de tempo predefinid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objeto pode interpretar a passagem de um certo intervalo de tempo como sendo um evento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É especificado com a cláusula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seguida de um parâmetro que especifica um intervalo de temp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fter(30 segundos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: indica que a transição será disparada 30 segundos após o objeto ter entrado no estado atua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vento de mud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orresponde a uma condição que se torna verdadeira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É representado por uma expressão de valor lógico (verdadeiro ou falso) e é especificado utilizando-se a cláusula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when(saldo &gt; 0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: significa que a transição é disparada quando o valor do atributo saldo for positiv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Eventos temporais também podem ser definidos utilizando-se a cláusula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when(data = 13/07/200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when(horário = 00:00h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1741-3E26-4150-98DD-A0B3D3040A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330033"/>
                </a:solidFill>
                <a:latin typeface="Times New Roman"/>
              </a:rPr>
              <a:t>Exemplo (</a:t>
            </a: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ContaBancária</a:t>
            </a:r>
            <a:r>
              <a:rPr b="0" lang="pt-BR" sz="3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30200" y="1557360"/>
            <a:ext cx="6626520" cy="484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9F0C-836B-4B22-AA62-6BFB53F92C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ventos resultando em evento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ocorrência de um evento relevante pode ocasionar a ocorrência de outro ev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exemplo a seguir, além da transição de estados, o event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oEv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relevante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jetoAl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também é disparado.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14240" y="4292640"/>
            <a:ext cx="7810560" cy="73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CC72-BAAA-4C5B-ACA7-C286009D75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Condição de guarda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a expressão de valor lógico que condiciona o disparo de uma trans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transição correspondente é disparada se e somente se o evento associado ocorr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 condição de guarda é verdadei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transição que não possui condição de guarda é sempre disparada quando o evento ocor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ndição de guarda pode ser definida utilizando-se parâmetros passados no evento e também atributos e referências a ligações da classe em quest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9D8-66F9-4BDE-8766-CF718DBC63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Açõe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o transitar de um estado para outro, um objeto pode realizar uma ou mai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ação é uma expressão definida em termo dos atributos, operações, associações da classe ou dos parâmetros do evento também podem ser util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ção associada a uma transição é executada se e somente se a transição for dispa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437D-0D08-4353-B846-50C2EDD0B6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Atividade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melhantes a ações, atividades são algo que deve ser execu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entanto, uma atividade pode ser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terrompi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uma ação não po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r exemplo, enquanto a atividade estiver em execução, pode acontecer um evento que a interromp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a diferença: uma atividade sempre está associada a um estado (ao contrário, uma ação está associada a uma transiçã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1D5D-D87B-491F-9E00-9FD98D7C82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Ponto de junção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que o próximo estado de um objeto varie de acordo com uma cond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o valor da condição for verdadeiro, o objeto vai para um estado E1; se o valor for falso, o objeto vai para outro estado E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como se a transição tivesse bifurcações, e cada transição de saída da bifurcação tivesse uma condição de guar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a situação pode ser representada em um DTE através de u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onto de jun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ntos de junção permitem que duas ou mais transições compartilhem uma “trajetória de transiçõ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034-7593-4F3F-85EA-7B47300E84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Ponto de junção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uma forma geral, pode haver um número ilimitado de transições saindo de um ponto de jun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haver também uma transição de saída que esteja rotulada com a cláusul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Se as outras condições forem falsas, a transição da clausula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é disparad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ntos de junção permitem que duas ou mais transições compartilhem uma “trajetória de transiçõ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uma forma geral, pode haver um número ilimitado de transições saindo de um ponto de jun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haver também uma transição de saída que esteja rotulada com a cláusul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Se as outras condições forem falsas, a transição da clausula 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é disparad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FE8B-4222-4805-9F7D-E2B35984E1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xemplo de Ponto de junção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1866960"/>
            <a:ext cx="8064360" cy="37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B3B-B05E-4DE1-BF75-AB3007C274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áusul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compartimento adicional de um retângulo de estado podem-se especificar ações ou atividades a serem execut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taxe geral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vento / [ação | atividad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á três cláusulas predefinidas: e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ntry,exit,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áusul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 ser usada para especificar uma ação a ser realizada no momento em que o objeto entra em um es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ação desta cláusula é sempre executada, independentemente do estado do qual o objeto ve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7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É como se a ação especificada estivesse associada a todas as transições de entrada no estad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29F-050D-4970-BA30-3991240C66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Capítulo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10</a:t>
            </a:r>
            <a:r>
              <a:rPr b="0" lang="sv-SE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sv-SE" sz="4800" spc="-1" strike="noStrike">
                <a:solidFill>
                  <a:srgbClr val="330033"/>
                </a:solidFill>
                <a:latin typeface="Times New Roman"/>
              </a:rPr>
              <a:t>Modelagem de Estados</a:t>
            </a: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Todos os adultos um dia foram crianças, mas poucos se lembram dis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equeno Príncipe, Antoine de Saint-Exupé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6C87-DC55-4288-AE4B-60E94429EC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áusul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áusul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ve para declarar ações que são executadas sempre que o objeto sai de um es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sempre executada, independentemente do estado para o qual o objeto v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É como se a ação especificada estivesse associada a todas as transições de saída do est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áusul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da para definir alguma atividade a ser executada quando o objeto passa para um determinado es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o contrário da cláusula entry, serve para especificar uma atividade ao invés de uma 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042F-8204-415C-BD80-0E0C9321FB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áusula do</a:t>
            </a:r>
            <a:r>
              <a:rPr b="0" lang="pt-BR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- exemplo</a:t>
            </a:r>
            <a:r>
              <a:rPr b="0" lang="pt-BR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17600" y="2565360"/>
            <a:ext cx="4343400" cy="291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4E80-A006-4271-96A4-2A99789E6F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áusulas entry e exit - exemplo</a:t>
            </a:r>
            <a:r>
              <a:rPr b="0" lang="pt-BR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11280" y="2652840"/>
            <a:ext cx="4302360" cy="279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3A1-3611-40B5-8D05-A2F639F112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330033"/>
                </a:solidFill>
                <a:latin typeface="Times New Roman"/>
              </a:rPr>
              <a:t>Cláusula do</a:t>
            </a: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t-BR" sz="4600" spc="-1" strike="noStrike">
                <a:solidFill>
                  <a:srgbClr val="330033"/>
                </a:solidFill>
                <a:latin typeface="Times New Roman"/>
              </a:rPr>
              <a:t>- exemplo</a:t>
            </a: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4360" y="1741320"/>
            <a:ext cx="8188200" cy="439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FF8-5087-4BF3-9527-DB82AB22D1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</a:t>
            </a:r>
            <a:r>
              <a:rPr b="0" lang="pt-BR" sz="3400" spc="-1" strike="noStrike">
                <a:solidFill>
                  <a:srgbClr val="330033"/>
                </a:solidFill>
                <a:latin typeface="Times New Roman"/>
              </a:rPr>
              <a:t> (</a:t>
            </a: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espertador</a:t>
            </a:r>
            <a:r>
              <a:rPr b="0" lang="pt-BR" sz="3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7883280" cy="504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3D0-130F-40CF-A663-DA5AE6A338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Identificação dos elementos de um diagrama de estados </a:t>
            </a:r>
            <a:r>
              <a:rPr b="0" lang="pt-BR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E66B-8135-4880-A9E1-D92D2EC464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dentificação de elementos do D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bom ponto de partida para identificar estados é analisar os possíveis valores de seus atributos e as ligações que ele pode realizar com outros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entanto, a existência de atributos ou ligações não é suficiente para justificar a criação de um D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omportamento de objetos dessa classe deve depender de tais atributos ou ligações.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839B-A975-45D0-AEF1-7DD00CD8E5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dentificação de elementos do D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á que transições dependem de eventos para ocorrer, devem-se identificar estes eventos primeir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ém disso, deve-se examinar também se há algum fator que condicione o disparo da trans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existir, este fator deve ser modelado como uma condição de guarda da trans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bom ponto de partida para identificar eventos é a descrição dos casos de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eventos encontrados na descrição dos casos de uso são externos a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udo, uma transição pode também ser disparada por um even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tern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04C3-B35C-41DC-ACFE-646F24C28DE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dentificação de elementos do D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uma forma geral, cada operação com visibilidade pública de uma classe pode ser vista como um evento em poten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outra fonte para identificação de eventos associados a transições é analisar a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egras de negóci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Um cliente do banco não pode retirar mais de R$ 1.000 por dia de sua cont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Os pedidos para um cliente não especial devem ser pagos antecipadamente”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O número máximo de alunos por curso é igual a 30”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C92D-A73F-433A-8AA1-C7DAD660D2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Um DTE para uma clas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diagramas de estados são desenhados por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vantagem: dificuldade na visualização do estado do sistema como um to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sa desvantagem é parcialmente compensada pelos diagramas de inter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m todas as classes de um sistema precisam de um D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omente classes que exibem um comportamento dinâmico releva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bjetos cujo histórico precisa ser rastreado pelo sistema são típicos para se construir um diagrama de estado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814-8C89-4A9C-96D7-F77BA081DA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os do mundo real se encontram em estados particulares a cada mo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jarra está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he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líq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pessoa está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ansa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 mesma forma, cada objeto participante de um sistema de software orientado a objetos se encontra em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st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objeto muda de estado quando acontece alg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v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interno ou externo a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urante a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ransi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um estado para outro, um objeto realiza determinada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ntro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um objeto transita de um estado para outro, significa que o sistema no qual ele está inserido também está mudando de est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533-3E02-459E-A6CA-115D8A83EA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rocedimento para constr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que os estados relevantes para a cla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que os eventos relevantes. Para cada evento, identifique qual a transição que ele ocasio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cada estado: identifique as transições possíveis quando um evento ocor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cada estado, identifique os eventos internos e ações correspond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cada transição, verifique se há fatores que influenciam no seu disparo. (definição de condições de guarda  e açõ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cada condição de guarda e para cada ação, identifique os atributos e ligações que estão envolv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a o estado inicial e os eventuais estados fi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enhe o D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6C93-A18A-426D-9FC5-97685FF8F22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0033"/>
                </a:solidFill>
                <a:latin typeface="Times New Roman"/>
              </a:rPr>
              <a:t>Diagramas de estados no processo de desenvolvimento incremental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DDD9-E793-4882-9F4B-4F78B310924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DTEs em um PDS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DTEs podem ser construídos com base nos diagramas de interação e nos diagramas de clas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urante a construção do DTE para uma classe, novos atributos e operações podem surg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sas novas propriedades devem ser adicionadas ao modelo de clas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nstrução de um DTE freqüentemente leva à descoberta de novos atributos para uma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ncipalmente atributos para servirem de abstrações para es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ém disso, este processo de construção permite identificar novas operações na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is os objetos precisam reagir aos eventos que eles receb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7380-6B6D-477D-9BA4-EDD6A4C0EE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DTEs em um PDSI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mportamento de um objeto varia em função do estado no qual ele se encont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necessária a atualização de uma ou mais operações de uma classe para refletir o comportamento do objetos em cada 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 exemplo, o comportamento da operaçã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acar(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 class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aBancár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varia em função do estado no qual esta classe se encont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aques não podem ser realizados em uma conta que esteja no estad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loquead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66EB-F771-4E0E-B11D-7F61F2D4F7F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Diagrama de transição de estado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avés da análise da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ransi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ntr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st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s objetos de um sistema de software, podem-se prever todas as possívei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peraçõe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lizadas, em funçã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ven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e possam ocorr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diagrama da UML que é utilizado para realizar esta análise é 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iagrama de transição de est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D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UML tem um conjunto rico de notações para desenhar um D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ransi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ransições inter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stados aninha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stados concor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6CF-FBB8-4EE6-812A-6B1E1DCEB6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stad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tuação na vida de um objeto em que ele satisfaz a alguma condição ou realiza alguma atividade. É função do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valores dos atribu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(ou) da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ligações com outros obje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atribut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eserva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ste objeto livro tem valor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verdadeir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conta bancária passa para 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vermelh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ando o seu saldo fic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egativ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professor está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licencia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ando não está ministrando curso algum durante o semest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tanque está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a reserv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ando nível de óleo está abaixo de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pedido está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tendi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ando todos os seus itens estão atendido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dos podem ser vistos como uma abstração dos atributos e associações de um ob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111-ADC2-4B6E-99B1-21168A8DB7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stados inicial e fina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8036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stado inicial indica o estado de um objeto quando ele é criado. Só pode haver um estado inicial em um D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sa restrição serve para definir a partir de que ponto um DTE deve começar a ser l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stado final é representado como um círculo “eclipsado” e indica o fim do ciclo de vida de um ob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opcional e pode haver mais de um estado final em um D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tação da UML para est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5084640"/>
            <a:ext cx="7344000" cy="12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8CC-B2DC-4479-903C-E8B952DE2F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280" y="1599840"/>
            <a:ext cx="814716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estados estão associados a outros pelas transi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transição é mostrada como uma linha conectando estados, com uma seta apontando para um dos es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uma transição entre estados ocorre, diz-se que a transição foi dispa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transição pode ser rotulada com uma expressão da seguinte 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4797360"/>
            <a:ext cx="6840360" cy="649440"/>
          </a:xfrm>
          <a:prstGeom prst="rect">
            <a:avLst/>
          </a:prstGeom>
          <a:solidFill>
            <a:srgbClr val="ccecff">
              <a:alpha val="38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vento (lista-parâmetros) [guarda] / 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Transiçõe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E11-0967-4AB7-82EA-B7AD41436B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vento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transição possui um evento associ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evento é algo que acontece em algum ponto no tempo e que pode modificar o estado de um obje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dido re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tura p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heque devolv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eventos relevantes a um sistema de software podem ser classificados em nos seguintes ti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vento de chama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recebimento de uma mensagem de outro ob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vento de sin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recebimento de um si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vento tempor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passagem de um intervalo de tempo predefin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vento de mudanç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uma condição que se torna verdadei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CA8D-97D8-47E9-A6B7-D85743E01A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Tipos de Event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vento de cham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rresponde ao recebimento de uma mensagem de outro obje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de-se pensar neste tipo de evento como uma solicitação de serviço de um objeto a out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vento de s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este evento o objeto recebe um sinal de outro objeto que pode fazê-lo mudar de est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diferença básica entre o evento de sinal e o evento de chamada é que neste último o objeto que envia a mensagem fica esperando a execução da mes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No evento de sinal, o objeto remetente continua o seu processamento após ter enviado o sin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305-2AC5-43DF-85F2-7387CBBF5F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bezerra</cp:lastModifiedBy>
  <dcterms:modified xsi:type="dcterms:W3CDTF">2004-11-12T20:23:01Z</dcterms:modified>
  <cp:revision>327</cp:revision>
  <dc:subject>Sildes do livro</dc:subject>
  <dc:title>Princípios de Análise e Projeto Orientados a Objetos com UML</dc:title>
</cp:coreProperties>
</file>