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259-B419-486B-863D-A5D28A88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101-B40A-4C6F-A99B-F662ADE7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8B4-266C-457E-B9B2-1E371A6F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4FD-D063-4971-BE39-4555868E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2657-8F7A-4486-860D-03AE91CC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2B8E-A454-4AEB-9651-3B34DB8F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AE7A-ACF0-4344-8F77-8CCA7FCF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1962-CDE0-49FA-909B-D879CADD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D640-2645-44CF-89D3-725E076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594A-79F1-43D6-A83F-9BABEA1D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7261-6BED-45EE-9148-BD21071A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16F-5C90-4306-A8AF-C05399FB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D536-F8B1-41A5-9883-499CB2A9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618-3EEA-474C-8512-6B34426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B56D-F776-41D1-A2F3-996498FD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F6B0-7112-4E1E-AC52-A3521A41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33C-28E5-456B-873C-9A35D3A1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C99-C167-41C6-BC07-D9D1743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412-2CB0-4FC4-885D-7CE4806B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75B-CFB5-4A7E-AFED-0BE6F7FA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713-99DE-4C1B-B032-9DCC6DA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87D-AB4E-435C-8BE6-A90DD46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08B-FFD6-4D21-8A63-13058357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A3E-5022-4EC5-897B-E32C5A15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81C9-A5BA-4F8F-A2E2-7767BB1BA788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D58-CBFE-4897-981D-5FB4C160D934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3FF2-1281-415A-8A07-7D21EE6BD3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parale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s de controle paralelos: dois ou mais fluxos sendo executados simultane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ra de bifur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cebe uma transição de entrada, e cria dois ou mais fluxos de controle paral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fluxo é executado independentemente e em paralelo com os dem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ra de jun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cebe duas ou mais transições de entrada e une os fluxos de controle em um único flux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: sincronizar fluxos paral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ransição de saída da barra de junção somente é disparada quando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s transições de entrada tiverem sido dispa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137-2B46-4FBF-B4A4-FF87A0EAB3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parale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vezes, as atividades de um processo podem ser distribuídas por vários agentes que o executar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cessos de negócio de um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so pode ser representado atravé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aias de na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swim lan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raias de natação dividem o diagrama de atividade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parti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ompartimento contém atividades que são realizadas por uma ent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9FC-F5C3-4A4D-AD6C-C6FC0BBC95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Raias de Natação)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31640" y="1716120"/>
          <a:ext cx="8388360" cy="44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716120"/>
                    <a:ext cx="83883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77A-89A7-43D1-99D4-913A4B20BF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ossíveis usos de diagramas de atividades  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FC3C-8395-436E-A677-9279CBE6D0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Usos de diagramas de ativ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são freqüentemente utilizados na prátic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na orientação a objetos o sistema é dividido em objetos, e não em módulos funcionais como na Análise Estruturada (Diagrama de Fluxos de Dad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504-2628-4195-931D-B801541CF1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os fluxos de trabalho de um processo do negóc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odelag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ambém é um processo de entend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desenvolvedor constrói modelos para entender melhor um probl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te caso, o enfoque está em entender o comportamento do sistema no decorrer de diversos casos de us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ocessos de negóc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o determinados casos de uso do sistema se relacionam no decorrer do t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FCF-66CF-4A58-8A83-FCB931DABC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 caso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11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alização de um caso de uso requer que alguma computação seja re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 computação pode ser dividida em ativ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sso P ocorre até que a C seja verdadeir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corre C, vai para o passo P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as situações, é interessante complementar a descrição do caso de uso com um diagrama de ativ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085240" y="1965240"/>
            <a:ext cx="879480" cy="3551040"/>
            <a:chOff x="8085240" y="1965240"/>
            <a:chExt cx="879480" cy="3551040"/>
          </a:xfrm>
        </p:grpSpPr>
        <p:sp>
          <p:nvSpPr>
            <p:cNvPr id="124" name=""/>
            <p:cNvSpPr/>
            <p:nvPr/>
          </p:nvSpPr>
          <p:spPr>
            <a:xfrm>
              <a:off x="8294400" y="1965240"/>
              <a:ext cx="209520" cy="311400"/>
            </a:xfrm>
            <a:prstGeom prst="flowChartOffpageConnector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85240" y="2588040"/>
              <a:ext cx="628200" cy="623160"/>
            </a:xfrm>
            <a:prstGeom prst="flowChartProcess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85240" y="3522600"/>
              <a:ext cx="628200" cy="498600"/>
            </a:xfrm>
            <a:prstGeom prst="flowChartDecision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85240" y="4270320"/>
              <a:ext cx="628200" cy="623160"/>
            </a:xfrm>
            <a:prstGeom prst="flowChartProcess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85240" y="5329440"/>
              <a:ext cx="628200" cy="186840"/>
            </a:xfrm>
            <a:prstGeom prst="flowChartTerminator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4" idx="2"/>
              <a:endCxn id="125" idx="0"/>
            </p:cNvCxnSpPr>
            <p:nvPr/>
          </p:nvCxnSpPr>
          <p:spPr>
            <a:xfrm>
              <a:off x="8398800" y="2276280"/>
              <a:ext cx="1080" cy="31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0" name=""/>
            <p:cNvCxnSpPr>
              <a:stCxn id="125" idx="2"/>
              <a:endCxn id="126" idx="0"/>
            </p:cNvCxnSpPr>
            <p:nvPr/>
          </p:nvCxnSpPr>
          <p:spPr>
            <a:xfrm>
              <a:off x="8398800" y="3210840"/>
              <a:ext cx="1080" cy="31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6" idx="2"/>
              <a:endCxn id="127" idx="0"/>
            </p:cNvCxnSpPr>
            <p:nvPr/>
          </p:nvCxnSpPr>
          <p:spPr>
            <a:xfrm>
              <a:off x="8398800" y="4020840"/>
              <a:ext cx="1080" cy="249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27" idx="2"/>
              <a:endCxn id="128" idx="0"/>
            </p:cNvCxnSpPr>
            <p:nvPr/>
          </p:nvCxnSpPr>
          <p:spPr>
            <a:xfrm>
              <a:off x="8398800" y="4893120"/>
              <a:ext cx="1080" cy="43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33" name=""/>
            <p:cNvSpPr/>
            <p:nvPr/>
          </p:nvSpPr>
          <p:spPr>
            <a:xfrm>
              <a:off x="8713440" y="3771720"/>
              <a:ext cx="25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8280" y="5142600"/>
              <a:ext cx="58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964720" y="3771360"/>
              <a:ext cx="0" cy="13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604-94CC-44D5-B1A6-C00A899BAA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 caso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fluxos principal, alternativos e de exceção podem ser representados em um único diagrama de ativ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lementar e não substituir a descri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ção d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tiv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través do exame d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lux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sos de uso são descritos na perspectiva dos atores, enquanto diagramas de atividade descrevem atividades internas a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1A5-D8FF-4B52-9245-D346C9AD91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a operação complex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 sistema é adequadamente decomposto em seus objetos, a maioria das operações são bastante si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s não necessitam de modelagem gráfic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pode haver a necessidade de descrever a lógica de uma operação mais complex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lementação de regras de negó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7A9-D307-4EC3-AC61-217422D2E4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11</a:t>
            </a:r>
            <a:r>
              <a:rPr b="0" lang="sv-SE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odelagem de Atividad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 choose a ready guide in some celestial vo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you choose not to decide, you still have made a cho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l Peart (Rush, Freew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77B5-1B82-46CA-9CDD-658B5E2C96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quatro diagramas da UML que descrevem os aspectos dinâmicos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s de es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s de seqüência e de colabor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iagrama de ativi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 tipo especial de diagrama de estados, onde são representados os estados de uma atividade, ao invés dos estados de um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1FA-A750-4C1F-AE55-66C2564AE4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iagrama de atividade exibe 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assos de uma compu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ada estado é um passo da computação, onde o sistema está realizando algo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orientado a fluxos de controle (ao contrário dos DTEs que são orientados a evento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luxogram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tendid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ém de possuir toda a semântica existente em um fluxograma, permite representar ações concorrentes e sua sincro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podem ser divididos em dois grupos: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e seqüen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e paralel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1B9-8E02-4DB3-9A10-6CA4A41F4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utilizados em fluxos seqüenci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 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 ativ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s inicial e final, e condição de guar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ansição de térm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ntos de ramificação e de uniã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utilizados em fluxos parale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s de sincroniz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arra de bifurcação (for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arra de junção (joi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64E-63D5-4FD6-9853-B46DC02680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stado em um diagrama de atividade po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 estado ativi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leva um certo tempo para ser fin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 estado 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realizado instantane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 haver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pode haver vári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tados fin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guar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ssociadas a transi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não ter estado final, o que significa que o processo ou procedimento é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cíclic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798-9805-4C25-B73C-08091832B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ransição de térmi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ignifica o término de um passo e o conseqüente início do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o invés de ser disparada pela ocorrência de um evento, é disparada pelo término de um pas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F75-4CE5-4564-ABEF-93475D20A7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onto de ramifi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ssui uma única transição de entrada e várias transições de saí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a cada transição de saída, há uma condição de guarda associ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o fluxo de controle chega a um ponto de ramificação, uma e somente uma das condições de guarda deve ser verdadei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haver uma transição com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[else]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onto de uni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úne diversas transições que, direta ou indiretamente, têm um ponto de ramificação em com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C17-9074-4E10-B139-0E0F16F8DF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6560" y="1684440"/>
          <a:ext cx="820908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84440"/>
                    <a:ext cx="820908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475-FB04-49A0-A6B3-CEF0EA807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20:45Z</dcterms:modified>
  <cp:revision>327</cp:revision>
  <dc:subject>Sildes do livro</dc:subject>
  <dc:title>Princípios de Análise e Projeto Orientados a Objetos com UML</dc:title>
</cp:coreProperties>
</file>