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D8F3-5859-4A10-AF30-63A2FB03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112-BF04-4F59-8EC4-2235F256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4B1-2918-4E18-9974-628CB933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781-8DAC-4AB8-9F10-38BD92DB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61CB-333D-4B65-A9DB-D9FD54DA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4C46-FB3A-4ED3-BA6F-E96E38F2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8879-B0D4-4B6F-814D-4B7F5C99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1DE1-E522-406B-8982-76F1B570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B13C-7459-4D02-8D29-7B3227A2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EF17-483D-4985-A6A5-87B65911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95B6-A60F-412E-88B2-A1D126E1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A0A-DB9F-49A5-8A68-790947D9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515B-6672-43CB-A61F-14CFEEE9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DE00-BF59-46D6-889E-B720FBE6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756F-1F02-4B47-A8D0-9857BA6E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EF9D-FFA9-44CD-AAA7-90BC3748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7534-7207-4A1C-A9F0-5DE74C9D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C5C-D393-4826-8A94-5508F8DE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F67-1399-4067-8DDE-25A54E3E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C2E-9A82-4CF7-879B-D2F72E8B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0A4-0E06-481C-B395-7D44D290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DB0-881D-479B-887A-84854E15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C46-A482-4B42-A81D-53575D5D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28C-7EDB-4896-9F6B-09FC3CD9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C050-33C6-4D3B-B973-45FF6E353512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BAB8-1F61-466B-BECD-AF65FFE20081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F01D-80DC-494C-93A2-7592D834C9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ção 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erviç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: 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erviç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alguma tarefa que uma entidade de software realiza para outra. Um serviço é composto de sua especificação e de seu méto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ificação: define o que o serviço realiza, além de documentar as informações que são necessárias para a sua real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: corresponde ao modo de realizar um serviço. Dada a especificação de um serviço, podem existir diversos métodos para realizá-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A39-653B-41F9-9C76-3A2169E859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interface corresponde a um conjunto especificações de serviç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elhante ao conceito de classe abstrata (possui um nome, não gera instânci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, uma interface não contém estrutura interna (atributos e associaçõ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isso, todas as operações (serviços) de uma interface só possuem especificações; o método não é definido na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975-D596-4D06-83A7-B749088396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ceito de interface está relacionado a outro conceito da UML: 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lassificado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ificador: uma entidade de software que implementa os métodos dos serviços especificados em um ou mais inte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UML, classificador é um nome genérico que pode deno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sub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ompo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FBA-C7DC-4BB2-B309-2DD048FBC3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lassificador possui comportamento, ou seja, implementa um conjunto de oper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ravés de suas op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lassificador pode fornecer serviços para outros classific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 também pode utilizar serviços desses últi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um classificador implementa uma ou mais operações especificadas em uma interface, diz-se que o classificador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aliz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7B0-AF8E-46D9-9F99-CCA9D3610A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interface funciona como um nível adicional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indireção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rnando o sistema mais flexível a mudanç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nha que Ca utiliza serviços de Cb1 através de uma interface IC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m novo classificador Cb2, que também realiza ICb for desenvolvido, este pode substituir Cb1 sem que Ca precise sofrer modific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ificadores podem ser substituídos sem causar modificações em seus cl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458-079B-4D33-9EC7-78712F20C5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, 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19280" y="3716280"/>
            <a:ext cx="6192720" cy="2487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14400" y="1600200"/>
            <a:ext cx="77724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imeira notação é a mesma para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exibidas as operações que a interface especi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 ser usado o estereótipo &lt;&lt;interface&gt;&gt;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753-26CD-4D89-8ACD-EECEB968F8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erfaces, No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1320" y="4005360"/>
            <a:ext cx="4595760" cy="2101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nda notação: através de um segmento de reta com um pequeno círculo em um dos extremos e ligado ao classificador que a realiza no outro extre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s clientes conectadas à interface através de um relacionamento de dependê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D34-9522-4DB7-9880-1623001C91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ubsiste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subsistema é um classificador que corresponde a um agrupamento de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do um tipo de classificador, um subsistema realiza uma ou mais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UML, um subsistema é representado como um pacote com o estereótipo &lt;&lt;subsistema&gt;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ortante: subsistemas podem realizar interfaces enquanto que pacotes são somente mecanismos de agrup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-se construir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agrama de subsistemas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é um diagrama de pacotes onde no qual todos os pacotes são sub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5BA-26E2-417D-8023-A7D8C6C332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lasses a subsiste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rante o desenvolvimento de um sistema orientado a objetos, seus subsistemas devem ser identificados, juntamente com as interfaces entre 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lasse do sistema é então alocada aos sub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nalmente, um diagrama de subsistemas é construí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vez feita a sua identificação e a definição de sua interface, cada subsistema pode ser desenvolvido quase que de forma independente um do ou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BC9-5EC3-4F90-826A-6176B44A41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lasses a subsiste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lo de classes de domínio: ponto de partida para a identificação dos sub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classes devem ser agrupadas segundo algum critério para formar sub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ritério de agrupamento possível:  considerar as classes mais importantes do modelo de classes de domín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ada uma dessas classes, um subsistema é cri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s classes menos importantes e relacionadas a uma classe considerada importante são posicionadas no subsistema desta úl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386-B672-4FF0-9821-3CB5A87F42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12</a:t>
            </a:r>
            <a:r>
              <a:rPr b="0" lang="sv-SE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Decompondo o Sistema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One of these days I’m going to cut you into little pie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EDDLE, Pink Floy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E56D-0FDD-47A6-BCAA-730F2A6672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lasses a subsistem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outro lado, na fase especific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s das classes do modelo de domínio podem sofrer decomposições adicionais, o que resulta em novas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que uma classe de domínio seja ela própria um sub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essas classes forem criadas, elas são adicionadas aos subsistemas pré-defi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F8F-BCEB-4FA0-A64C-F2FC8A8F4E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Dicas para a definição de subsistem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istemas devem ser minimamente acopl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istemas devem ser maximamente coes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pendências cíclicas entre subsistemas devem ser evi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alternativa para eliminar ciclos é quebrar um subsistema pertencente ao ciclo em dois ou mais. Uma outra solução é combinar dois ou mais subsistemas do ciclo em um ú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 deve ser definida em um único subsistema (embora possa ser utilizada em vári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ubsistema que define a classe deve mostrar todas as propriedades da me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tros subsistemas que fazem referência a essa classe podem utilizar a notação simplificada da me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1707-62C0-4E6E-9961-C4637BFC73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ém dos subsistemas e das classes, um outro tipo de classificador é o compon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ogia: chip de memó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omponente eletrônico que pode ser utilizada para construir um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substituído por outro chip mais poderoso que possua a mesma especif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 mesma forma, pode-se pensar em um sistema de software constituído de diversos componentes, elementos que existem a tempo de execução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473-C048-4231-B983-F64881DF6E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omponente é uma unidade configurável de software que pode ser utilizada na construção de vários sistemas e que pode ser substituída por outra unidade que forneça a mesma funcional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ndo um classificador, um componente pode prover acesso aos seus serviços através de uma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icionalmente, um componente fornece serviços a outros componentes do sistema, mas pode também requisitar serviç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B06-3A28-4143-87F9-CF24E73736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aração entre classificador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onentes existem a tempo de implementação e de execução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istemas são elementos que existem a tempo de modelagem desse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ualmente há uma correspondência unívoca entre um componente e um subsistema de orig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-se dizer que o resultado da construção (compilação e ligação) de um subsistema é um com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8064-6AAD-4821-A7AA-807039069A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a diferença é que componentes representam conceitos fís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o invés de conceitos lógicos representados por classes e sub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onentes são o empacotamento físico do sistema: uma única classe pode fornecer objetos para vários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construído segundo o paradigma da OO, um componente é composto de diversos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1B1-66C2-42F3-A60A-70202F08E7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Desenvolvimento Baseado em Component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Área ativa de pesquisa, cujo objetivo é a construção de componentes que tenham utilidade em diversas situações, não só no sistema no qual eles foram construí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nvolvimento de software passaria a ser cada vez mais baseado n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us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componentes pré-existentes do que na sua construção e teste de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26A8-53A2-4B4D-9C22-C42327245A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Reuso no Desenvolvimento Baseado em Component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190760" cy="42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75F-FC2F-4C3A-82E8-A313A0C8C5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mponentes na UM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L: “um componente de software é um módulo, pacote ou subsistema que tem uma função e uma interface claramente definidas e pode ser integrado em um ou mais sistem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a definição engloba a definição considerada pela área de DB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define três tipos de componentes: de execução, de instalação e de trabal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fornece uma notação específica para componentes, apresentada mais adi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2ED-74AC-48F6-B5AD-6996B733CB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em Camad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outra forma de organizar a arquitetura de um sistema complexo em partes menores é através de camadas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amada de software, é uma coleção de sub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camada corresponde a um conjunto de funcionalidades de um sistema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cionalidades de alto nível dependem de funcionalidades de baixo ní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madas fornecem um nível de abstração através do agrupamento lógico de subsistemas relacion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5AA-E332-4E7D-853A-32639D72596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stões relacionadas à arquitetura de um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um sistema é decomposto em subsistemas, e como as suas classes são dispostas pelos diversos subsiste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subsistemas devem ser dispostos fisicamente quando o sistema tiver de ser implantado? (nós de processa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há uma definição universal sobre o que significa arquitetura de um sist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ificação da UML: “Arquitetura de software é a estrutura organizacional do software. Uma arquitetura pode ser recursivamente decomposta em partes que interagem através de interfac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E32-F881-4D81-88D8-B74E4420B6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em Camad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ípio geral: camadas de abstração mais alta devem depender das camadas de abstração mais baixa, e não o contr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mite que o sistema de software seja mais portável e modificá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mudança em uma camada mais baixa que não afete a sua interface não implicará em mudanças nas camadas mais al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vice-versa, uma mudança em uma camada mais alta que não implica na criação de um novo serviço em uma camada mais baixa não irá afetar estas últ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76A-0A7E-44E8-B545-08CA32EC40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em Camad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não tem nenhum elemento gráfico pré-específico para representar camadas de um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pacotes também podem ser utilizados para representar cam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stereótipo &lt;&lt;camada&gt;&gt; pode ser utilizado no pacote que represente uma cam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ato de uma camada utilizar outra pode ser representado por um relacionamento de depend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A61-B5B4-40BA-9B3B-553CA60EA0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Cliente-Servid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sistema cliente-servidor clássico é dividido em duas camadas. A primeira (cliente) requisita serviços à segunda (servido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liente é normalmente responsável pela interface gráfica com o usu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servidor é normalmente pode servir a diversos clientes para fornecer diversos serviços (segurança, impressão, correio eletrônico, gerenciamento de janelas, etc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94B-54D5-43E5-8F57-0FD7DC25BE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Cliente-Servid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função da sua carga de processamento, um cliente pode ser magro e gor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iente magro: boa parte do processamento da lógica da aplicação está no servi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iente gordo: contém a interface com o usuário e a maior parte da (ou toda) lógica da aplicação (servidor funciona como um repositório de dad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525-037B-4E39-BE3A-3BEC7C08E5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Cliente-Servid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s cliente-servidor em duas camadas foram dominantes durante aproximadamente toda a década de 90 e são utilizados até ho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e sistemas cliente-servidor é vantajosa quando o número de clientes não é tão gra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exemplo, uma centena de clientes interagindo com o servidor através de uma rede lo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293-E64B-47DB-BF2E-3B0F22361A0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Cliente-Servid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com o surgimento da Internet. Rapidamente, originou-se uma demanda pela construção de sistemas de software que pudessem ser utilizados nesse amb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to causou problemas em relação à estratégia cliente-servidor de duas camadas, principalmente em relação à construção de clientes gor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net: permitir o acesso a variados recursos através de um programa navegador (browser), que não fornece grande suporte à construção daquele tipo de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516-807B-4422-894C-F10C6CB1E9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stemas em três camada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lução encontrada: adição de um nova camada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s construídos segundo essa estratégia são denominado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sistemas cliente-servidor em três camad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as camadas normalmente recebem os seguintes no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mada de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mada da lógica do negó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mada de a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9FC-9337-48CC-A172-AEAC43ADA0C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mada de apresen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s que contêm funcionalidade para visualização dos dados pelos usuá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classes de fronteira para atores humanos se encontram nessa cam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ivo: exibir informações ao usuário e traduzir ações do usuário em requisições às demais partes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 de camadas de apresentaçã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sistema de menus baseados em tex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página escrita em HTML ou XHTML com JavaScript apresentada em um navegador de Interne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interface gráfica construída em algum ambiente de programação vis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21F-29FE-4FDB-9077-0076CAADEEB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mada da lógica do negóc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bém denominada camada da lógica da aplicação (servidor de aplicaçã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s que implementam as regras do negócio no qual o sistema está para ser impla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ém disso, essa camada deve decidir que parte da camada de acesso de ser ativada com base em requisições provenientes da camada de apresen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ssa camada, são realizadas computações com base nos dados armazenados ou nos dados de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bém são feitas validações de dados provenientes da camada de apresentação. Classes de controle e as classes de entidade se encontram nesta cam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73F-7A0D-45F0-830A-697A4EDAFD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amada de aces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ém classes que se comunicam com outros sistemas para realizar tarefas ou adquirir informações para 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icamente essa camada é implementada utilizando algum mecanismo de armazenamento persistente (SGB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haver uma subcamada dentro desta camada: a camada de persist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ola o restante do sistema de  modificações no mecanismo de armazenamento persis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CD2-764E-47F4-86C9-A653CD89B9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Visão Ger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ções introdutó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c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tetura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cliente-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em três cam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tetura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E19-38B4-47A5-B872-3A36B1DC69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fís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 a disposição física do sistema de software pelo hardware disponí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ivisão de um sistema em camadas é independente da sua disposição fís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camadas de software podem estar fisicamente localizadas em uma única máquina, ou podem estar distribuídas por diversos process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nativamente, essas camadas podem estar distribuídas fisicamente em vários processadores. (Por exemplo, quando a camada da lógica do negócio é dividida em duas ou mais máquina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3C0-4603-4839-BD59-A9720D4F823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físi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o que representa a arquitetura física é denominado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odelo de implement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modelo da arquitetura fís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dois tipos de diagramas na UML utilizados para modelar a arquitetura fís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de impla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de com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F7B-5A64-4C40-8DA1-85DB46CE8B8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stra os vários componentes de software de um sistema, além das dependências entre estes últi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elementos gráficos desse diagra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58920" y="4071960"/>
            <a:ext cx="7416720" cy="130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A7C2-5907-4A5E-8B85-4CFDFDD5864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547640" y="2637000"/>
            <a:ext cx="7056720" cy="2719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diagrama de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199-2610-4AD9-A8E4-79D59FEBD2E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7056360" cy="32763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mas alternativas de representação de interfaces de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588-71D5-4FE9-8BAE-473BDB28F1B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ompon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UML define diversos estereótipos para compon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lt;&lt;executável&gt;&gt;: um componente que pode ser exec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lt;&lt;documento&gt;&gt;: um documento. Por exemplo, um manual de instalação ou um manual do usu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lt;&lt;tabela&gt;&gt;: uma tabela em um banco de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lt;&lt;arquivo&gt;&gt;: um arquivo de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lt;&lt;biblioteca&gt;&gt;: uma biblioteca de objetos ou de funções. Por exemplo, uma DLL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B94-6AC2-4461-8CD4-08AAADB1178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implan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 a topologia física do sistema e opcionalmente os componentes que são executados nesta topolo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senta um mapeamento entre os componentes de software e o hardware uti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mentos: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nó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nex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nó é uma unidade física que representa um recurso comput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 possui uma memória e alguma capacidade de process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: processadores, dispositivos, sensores, roteadores ou qualquer equipamento de importância para o sistema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E990-8B11-4839-9A8C-DF6F8CFFA43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implan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nós são conectados uns aos outros através das conex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exões mostram mecanismos de comunicação entre os nó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ios físicos (cabo coaxial, fibra ótica, etc.) ou protocolos de comunicação (TCP/IP, HTTP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nó é representado através de um cub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me e tipo do nó definidos no interior do cu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intaxe para o nome e o tipo do nó é similar à utilizada para os diagramas de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nto o nome quanto o tipo são op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nexão é representada graficamente por uma linha (estereotipada) ligando dois nó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F635-BBF8-44B9-BDF6-1D31964D656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implan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16000" y="2406600"/>
            <a:ext cx="7265880" cy="33908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diagrama de impla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B576-DB24-4C18-80F7-4BBF82EE0B1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implant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diagrama de implantação exibindo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7859880" cy="276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E2F-150E-4388-B7C0-2CBBE3B6D82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co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mecanismo de agrupamento geral que pode ser utilizado para agrupar vários artefatos de um mode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tação: uma pasta com uma ab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eúdo, duas maneiras de representar grafica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) exibir o conteúdo dentro do pac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) “pendurar” os elementos agrupados no ícone do pac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227-B0A6-44EB-AEF3-D7B81DB5D7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omponentes aos nó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atividade de alocação de componentes aos nós físicos só tem sentido para sistemas distribuí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istemas que utilizam um único processador, não há necessidade desta ativ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dos principais objetivos: distribuir a carga de processamento do sistema para aumentar o desempen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entanto, nem sempre isso aumenta o desempe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so porque a sobrecarga de comunicação entre os nós pode anular os ganhos obtidos com a distribuição do process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B19-2FF7-4932-99A5-8AA418F621F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omponentes aos nó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vio de mensag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“distânc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ntro de um processo executando em um n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e processos no mesmo n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ltrapassa as fronteiras de um nó para ser executada em outra máqu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tanto, durante a alocação de componentes, o arquiteto de software deve considerar diversos fat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itos desses fatores se sobrepõem ou são incompat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AE4-CC46-4E73-90E2-0C4039E057B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omponentes aos nó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tores relacionados ao desempen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ção de dispos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ga comput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acidade de processamento dos nó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ização de tare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A8C-239D-41D2-8C88-7FA8DBCCA19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locando componentes aos nó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tores não relacionados ao desempen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quisitos não funcionais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gu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ças de plataformas (de hardware ou de sistema operacional) dos componentes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s usuários do sistema: leva em conta a localização física dos usuários, que máquinas eles utilizam, como eles estão conectad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cessidade ou benefícios da distribuição das camadas lógicas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undância: o mesmo componente pode ter que ser alocado a mais de um n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201-9396-46CA-AA47-49ABC5C9F59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física no processo de desenvolv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os diagramas de componentes é iniciada na fase de elaboração (projeto da arquitetura) e refinada na fase de construção (projeto detalhad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nstrução de diagramas de componentes se justifica para componentes de execu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visualizar as dependências entre os componentes e a utilização de interfaces a tempo de execução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distribuído: representar seus componentes utilizando diagramas de implan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8054-34B5-4C87-9870-AB65B1BBE60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física no processo de desenvolv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é recomendável usar diagramas de componentes para representar dependências de compilação entre os elementos do código fonte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aioria dos ambientes de desenvolvimento tem capacidade de manter as dependências entre códigos fonte, códigos objeto, códigos executáveis e páginas d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ó adiciona mais diagramas que terão que ser mantidos e que não terão uma real uti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também vários sistemas de gerenciamento de configurações e de versões de código (e.g, CVS)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B02-0686-4076-9349-6939F4E3C20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rquitetura física no processo de desenvolv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relação ao diagrama de implantação, sua construção tem início na fase de elaboração. Na fase de construção, os componentes são adicionados aos diversos nó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versão do sistema corresponde a uma versão do DI, que exibe os componentes utilizados na construção daquela ver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I deve fazer parte dos manuais para instalação e operacionalização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m todo sistema necessita de diagramas de componentes ou diagramas de impla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simple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ersu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istemas complex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F88-7841-47BC-8555-E25A64720C6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Modelo de casos de uso no processo de desenvolvimento 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987640" y="9810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B2D8-8FB1-4EA6-9B57-560C5479902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co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6769080" cy="254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F5D-F243-4616-A654-BA07A191B9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aco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4191120" cy="3573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4400" y="1600200"/>
            <a:ext cx="78343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cotes podem ser agrupados dentro de outros pacotes, formando uma hierarquia de conte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599-9342-47D9-B4B2-6278A9CB64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acotes, Visibilidad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4026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elemento de um pacote pode ter visibilidade pública, protegida ou priv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00" y="3141720"/>
            <a:ext cx="6243840" cy="157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919-DC06-4194-9E15-8268B9B2D3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Pacotes, Dependênci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haver relacionamentos de dependência entre pac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m, pode-se construir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iagrama de paco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representa dependências entre pac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acote P1 é dependente de outro, P2, se houver qualquer dependência entre quaisquer dois elementos de P1 e P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-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98A-972A-44F1-95A8-FA5708A82D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Eduardo Bezerra</cp:lastModifiedBy>
  <dcterms:modified xsi:type="dcterms:W3CDTF">2003-04-27T14:53:15Z</dcterms:modified>
  <cp:revision>397</cp:revision>
  <dc:subject>Sildes do livro</dc:subject>
  <dc:title>Princípios de Análise e Projeto Orientados a Objetos com UML</dc:title>
</cp:coreProperties>
</file>