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1F6-840B-41EB-B828-7E8404DD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DF5-641A-4DFC-96B0-6280A9C5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982-25F7-4487-B8CC-6F2F23C4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DAC-3B08-4409-808E-16D9B3B0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B647-857A-48FA-8F03-5BDA3C9B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368E-E916-4F3E-856A-55C45B02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5C86-7ADD-4635-8E17-C162969E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A064-3FD2-49B2-9560-6DA74350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CACD-C381-4BB2-92B0-73FC7062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8F26-1825-4CA3-9370-16E82884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951A-2313-4B37-BF47-D5779B4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28F-D99D-47FB-BB47-386592F3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847F-00C7-4302-A62B-B366EE42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073E-8A11-4137-A5B2-0D05CF7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4948-F7C4-4FD8-B398-DCB47ECB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014B-B14A-40A4-8524-B7596718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EC6E-55A0-4AE2-9FE5-84CF255A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ED0-7387-4896-8292-3659CA87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2E1-B12F-416F-8161-F53B472C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0E9-524C-4CE5-8E76-46A19218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198-3024-4306-B851-44A6202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F2F-27A8-442D-817E-A4AC7F7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714-3A83-4256-B8FA-CA07C46E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44A-E399-446A-A359-62720480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6497-BDDD-45B1-97F8-D582BD9D1C43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8F8A-4995-47D3-9B06-2D1CA8476F43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1143000"/>
            <a:ext cx="6418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378F-ECFB-45DA-B46D-E300BE944C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o modelo de dados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68360" y="1628640"/>
          <a:ext cx="5487840" cy="1976400"/>
        </p:xfrm>
        <a:graphic>
          <a:graphicData uri="http://schemas.openxmlformats.org/drawingml/2006/table">
            <a:tbl>
              <a:tblPr/>
              <a:tblGrid>
                <a:gridCol w="438120"/>
                <a:gridCol w="676080"/>
                <a:gridCol w="2360880"/>
                <a:gridCol w="2012760"/>
              </a:tblGrid>
              <a:tr h="3988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Ge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s Huma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s Financei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649760" y="3975120"/>
          <a:ext cx="3809880" cy="2190600"/>
        </p:xfrm>
        <a:graphic>
          <a:graphicData uri="http://schemas.openxmlformats.org/drawingml/2006/table">
            <a:tbl>
              <a:tblPr/>
              <a:tblGrid>
                <a:gridCol w="555480"/>
                <a:gridCol w="1494000"/>
                <a:gridCol w="17604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7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8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55640" y="3789360"/>
          <a:ext cx="3429000" cy="2766960"/>
        </p:xfrm>
        <a:graphic>
          <a:graphicData uri="http://schemas.openxmlformats.org/drawingml/2006/table">
            <a:tbl>
              <a:tblPr/>
              <a:tblGrid>
                <a:gridCol w="565200"/>
                <a:gridCol w="1198440"/>
                <a:gridCol w="16653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o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Proj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mpre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1BB-AFDF-4AEF-8275-67A6865ADD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o modelo de dados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2492280"/>
          <a:ext cx="8194680" cy="2867040"/>
        </p:xfrm>
        <a:graphic>
          <a:graphicData uri="http://schemas.openxmlformats.org/drawingml/2006/table">
            <a:tbl>
              <a:tblPr/>
              <a:tblGrid>
                <a:gridCol w="354240"/>
                <a:gridCol w="1033560"/>
                <a:gridCol w="1471320"/>
                <a:gridCol w="863640"/>
                <a:gridCol w="1798560"/>
                <a:gridCol w="1065240"/>
                <a:gridCol w="1608120"/>
              </a:tblGrid>
              <a:tr h="337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ereç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Depart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8488847-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a 24 de Maio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40-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4488847-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a do Bispo,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33-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l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. Rio Branco,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45868378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er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. Apiacás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Uruguaiana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54647888-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F5E-E6C5-4DFE-8CAE-93981EE1BD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Objetos transientes e persistentes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A8A3-2F63-4D96-8FDD-7943DFE860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objetos de um sistema podem ser classificados em persistentes e trans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bjetos transientes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somente na memória princip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controle e objetos de frontei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bjetos persiste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têm uma existência que perdura durante várias execuçõe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ecisam ser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armazen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quando uma execução termina, e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restaur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quando uma outra execução é inici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ipicamente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BD2-C9FA-474E-9791-B242AB3CAA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apeamento de objetos para o modelo relacional 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428B-1E03-40C6-9166-A0964EA718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peamento de objetos para o modelo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ção de um SGBDR: necessidade do mapeamento dos valores de atributos de objetos persistentes para tabe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a partir do modelo de classes que o mapeamento de objetos para o modelo relacional é re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melhante ao de mapeamento do M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ferenças em virtude de o modelo de classes possuir mais recursos de representação que o M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F89-37D6-4185-AD3B-281789AD01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peamento de objetos para o modelo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o MER e o modelo de classes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equival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ses modelos são freqüentemente confundi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ER é um modelo de dados, enquanto que o modelo de classes modela objetos (dados e comportament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ção (simplificad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relação é representada através do seu nome e dos nomes de suas colunas entre parênte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haves primárias são sublinh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haves estrangeiras são tracej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CFC-5BB0-412B-855D-FC15B9273D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peamento de objetos para o modelo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 a seguir utilizam sempre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luna de implemen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mo chave primária de cada rel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oluna de implementação é um identificador sem significado no domínio de negó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 abordagem é utilizada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nter uma padronização nos exempl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 por ser uma das melhores maneiras de associar identificadores a objetos mapeados para tabe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460-03D7-4653-AB88-8646D9522F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Classes e seus atribu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são mapeadas para rel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so mais simples: mapear cada classe como uma relação, e cada atributo como uma colu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entanto, pode não haver correspondência unívoca entre classes e relações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atributos o que vale de forma geral é qu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um atributo será mapeado para uma ou mais colun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m todos os atributos de uma classe são persistentes (atributos deriva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5AC-9C2E-4844-8BDB-38CEB9301F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Classes e seus atribu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4368960"/>
          <a:ext cx="8788320" cy="1004760"/>
        </p:xfrm>
        <a:graphic>
          <a:graphicData uri="http://schemas.openxmlformats.org/drawingml/2006/table">
            <a:tbl>
              <a:tblPr/>
              <a:tblGrid>
                <a:gridCol w="8788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lefon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gradour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Nasciment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E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úmero, sufix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lefon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gradour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Nasciment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332000" y="1989000"/>
          <a:ext cx="5904000" cy="16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89000"/>
                    <a:ext cx="590400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57200">
            <a:off x="183960" y="2338200"/>
            <a:ext cx="576000" cy="2143080"/>
          </a:xfrm>
          <a:custGeom>
            <a:avLst/>
            <a:gdLst>
              <a:gd name="textAreaLeft" fmla="*/ 77040 w 576000"/>
              <a:gd name="textAreaRight" fmla="*/ 498960 w 576000"/>
              <a:gd name="textAreaTop" fmla="*/ 374760 h 2143080"/>
              <a:gd name="textAreaBottom" fmla="*/ 155376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EF7-979C-4AF1-AB9B-77DC0A9F17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13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apeamento de Objetos para o Modelo Relaciona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1149-AC07-4FA1-9279-3CA75FE437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dimento utiliza o conceit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have estrangei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três casos, cada um correspondente a um tip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nectiv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s exemplos a seguir, considere, sem perda de generalidade,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á uma associação entre objetos de duas classes, Ca e C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s duas classes foram mapeadas para duas relações separadas, Ta e T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0B7-DDE6-442A-BCD7-8BDC256A66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2308320"/>
          <a:ext cx="842472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08320"/>
                    <a:ext cx="842472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0B5-643B-4FF9-9E6D-29B911CD10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1: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adicionar uma chave estrangeira em uma das duas relações para referenciar a chave primária da outra rel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lha da relação na qual a chave estrangeira deve ser adicionada com base n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rticip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três possibil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rigatória em ambos os extrem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pcional em ambos os extrem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rigatória em um extremo e opcional no outro extre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5065560"/>
            <a:ext cx="6264360" cy="64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915-C37A-4665-BEFE-D0D9B51921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1-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8920" y="4950000"/>
          <a:ext cx="7283520" cy="639720"/>
        </p:xfrm>
        <a:graphic>
          <a:graphicData uri="http://schemas.openxmlformats.org/drawingml/2006/table">
            <a:tbl>
              <a:tblPr/>
              <a:tblGrid>
                <a:gridCol w="728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Geren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matrícula, CPF, nome, endereço, CEP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692360" y="1628640"/>
          <a:ext cx="59180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918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rot="739800">
            <a:off x="250920" y="2421000"/>
            <a:ext cx="961920" cy="3152880"/>
          </a:xfrm>
          <a:custGeom>
            <a:avLst/>
            <a:gdLst>
              <a:gd name="textAreaLeft" fmla="*/ 128880 w 961920"/>
              <a:gd name="textAreaRight" fmla="*/ 833040 w 961920"/>
              <a:gd name="textAreaTop" fmla="*/ 551520 h 3152880"/>
              <a:gd name="textAreaBottom" fmla="*/ 2286000 h 31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BAA-4A4E-489F-9DAD-5E66501E93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1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 Ca a classe na qual cada objeto se associa com muitos objetos da classe C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m Ta eTb as relações resultantes do mapeamento de Ca e Cb, respect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te caso, deve-se adicionar uma chave estrangeira em T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referenciar a chave primária de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FB0-F34C-4395-B60D-62B8C74B90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1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4797360"/>
          <a:ext cx="8651880" cy="639720"/>
        </p:xfrm>
        <a:graphic>
          <a:graphicData uri="http://schemas.openxmlformats.org/drawingml/2006/table">
            <a:tbl>
              <a:tblPr/>
              <a:tblGrid>
                <a:gridCol w="865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Geren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rícula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ereç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Departam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619280" y="1916280"/>
          <a:ext cx="59054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16280"/>
                    <a:ext cx="59054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rot="1004400">
            <a:off x="395280" y="2292480"/>
            <a:ext cx="649440" cy="2576520"/>
          </a:xfrm>
          <a:custGeom>
            <a:avLst/>
            <a:gdLst>
              <a:gd name="textAreaLeft" fmla="*/ 86760 w 649440"/>
              <a:gd name="textAreaRight" fmla="*/ 562680 w 649440"/>
              <a:gd name="textAreaTop" fmla="*/ 450720 h 2576520"/>
              <a:gd name="textAreaBottom" fmla="*/ 1868040 h 25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845-41FA-4DB2-BF3A-25A608C315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muitos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 Ca a classe na qual cada objeto se associa com muitos objetos da classe C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m Ta eTb as relações resultantes do mapeamento de Ca e Cb, respectiva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lação de associ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 ser cri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de associação serve para representar a associação muitos para muitos entre duas ou mais relaçõ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1D2-208D-4678-89F8-AFB65564C8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muitos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quivalente à aplicação do mapeament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uas vezes, considerando-se os pares (Ta, Tassoc) e (Tb, Tasso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nativas para definir a chave primária de Tass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finir uma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chave primária compost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r uma coluna de implementação que sirva como chave primária simples da relação de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823-9E50-4C33-A24D-D8C0FB2EE7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muitos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65440" y="1569960"/>
          <a:ext cx="511164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569960"/>
                    <a:ext cx="51116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50920" y="3571920"/>
          <a:ext cx="8651880" cy="2378160"/>
        </p:xfrm>
        <a:graphic>
          <a:graphicData uri="http://schemas.openxmlformats.org/drawingml/2006/table">
            <a:tbl>
              <a:tblPr/>
              <a:tblGrid>
                <a:gridCol w="86518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Geren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rícula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ereç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Departam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ocaçã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Geren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rícula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ereç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Departam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ocaçã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rot="1287000">
            <a:off x="395280" y="1557360"/>
            <a:ext cx="576360" cy="2146320"/>
          </a:xfrm>
          <a:custGeom>
            <a:avLst/>
            <a:gdLst>
              <a:gd name="textAreaLeft" fmla="*/ 77040 w 576360"/>
              <a:gd name="textAreaRight" fmla="*/ 499320 w 576360"/>
              <a:gd name="textAreaTop" fmla="*/ 375480 h 2146320"/>
              <a:gd name="textAreaBottom" fmla="*/ 1556280 h 21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39D-1E9A-4AD6-912A-16D3A8640A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greg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 especial de associação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s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ocedimento para realizar o mapeamento de associações pode ser uti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a diferença semântica influi na forma como o SGBDR deve agir quando um registro da relação correspondente a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 ser excluído ou atu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moção ou atualização em casc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ser implementado com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gatilh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procedimentos armazen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DA2-5C16-4B76-BB16-CDE8A4FEB9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evância do mapeamento de objetos para o modelo rela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tecnologia OO como forma usual de desenvolver sistemas de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m dúvida os SGBDR dominam o mercado comer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ípios teóricos bastante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ecnologia O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são abstrações de comportament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: dados + funçõ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cnologia rela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ida com o armazenamento de dados tabular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2DD-3756-445E-AD83-03AA90977A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greg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adrão de acesso em agregações (composições) também é diferente do encontrado nas associ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um objeto todo deve ser restaurado, é natural restaurar também os objetos pa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 associações, isso nem sempre é o ca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finição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índic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adequados é importante para acesso eficiente aos objetos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part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069-D451-4301-9761-A468E25CCA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Reflex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 especial de associação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s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ocedimento para realizar o mapeamento de associações pode ser uti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particular, em uma associação reflexiva de conectivida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uitos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elação de associ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 ser cri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570-C032-4820-ABE3-EAEC1B619E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Reflex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6280" y="4624560"/>
          <a:ext cx="8686800" cy="38880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rícula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Contratação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ônju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Supervis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268360" y="1700280"/>
          <a:ext cx="452304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00280"/>
                    <a:ext cx="452304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rot="1285200">
            <a:off x="514080" y="1571400"/>
            <a:ext cx="961920" cy="3152520"/>
          </a:xfrm>
          <a:custGeom>
            <a:avLst/>
            <a:gdLst>
              <a:gd name="textAreaLeft" fmla="*/ 128880 w 961920"/>
              <a:gd name="textAreaRight" fmla="*/ 833040 w 961920"/>
              <a:gd name="textAreaTop" fmla="*/ 551520 h 3152520"/>
              <a:gd name="textAreaBottom" fmla="*/ 2285640 h 315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9AD-95CC-4639-9C58-4E8F989A46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n-ári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ções n-árias (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): procedimento semelhante ao utilizado para associações binárias de conectivida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uitos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para representar a associação é cri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ão adicionadas nesta relação chaves estrangei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a associação n-ária possuir uma classe associativa, os atributos desta são mapeados como colunas da relação de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E87-EF98-4705-8D9B-06DE529B36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n-ári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042920" y="4624560"/>
          <a:ext cx="7010640" cy="125244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écnic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mputador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 model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ocaçã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Técni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omputad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979640" y="1773360"/>
          <a:ext cx="453708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5370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02800">
            <a:off x="431280" y="1989000"/>
            <a:ext cx="827280" cy="2792520"/>
          </a:xfrm>
          <a:custGeom>
            <a:avLst/>
            <a:gdLst>
              <a:gd name="textAreaLeft" fmla="*/ 110880 w 827280"/>
              <a:gd name="textAreaRight" fmla="*/ 716400 w 827280"/>
              <a:gd name="textAreaTop" fmla="*/ 488520 h 2792520"/>
              <a:gd name="textAreaBottom" fmla="*/ 2024640 h 279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0EA-1149-4545-8200-72AC4B229C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Classes Associat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um dos casos de mapeamento de associações, há uma variante onde uma classe associativa é uti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peamento é feito através da criação de uma relação para representá-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atributos da classe associativa são mapeados para colunas dessa rel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sa relação deve conter chaves estrangeiras que referenciem as relações correspondentes às classes que participam da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8D8-E2B9-423C-BB11-C25F98BC40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Classes Associat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42920" y="1700280"/>
          <a:ext cx="705816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05816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79280" y="4341960"/>
          <a:ext cx="8785440" cy="14634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matrícula, no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verbaAnual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Líd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erramenta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descriçã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tilizaçã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Ferramen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dataUs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abalh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cargaHorária, remuneraçã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rot="641400">
            <a:off x="107640" y="2273040"/>
            <a:ext cx="504720" cy="2000160"/>
          </a:xfrm>
          <a:custGeom>
            <a:avLst/>
            <a:gdLst>
              <a:gd name="textAreaLeft" fmla="*/ 67320 w 504720"/>
              <a:gd name="textAreaRight" fmla="*/ 437400 w 504720"/>
              <a:gd name="textAreaTop" fmla="*/ 349920 h 2000160"/>
              <a:gd name="textAreaBottom" fmla="*/ 14500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3F1-26F6-472F-B19E-39FB9DFD48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ês form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lternativ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mape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para cada classe da hierarqu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para toda a hierarqu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para cada classe concreta da hierarqu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enhu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alternativas de mapeamento de generalização é a mel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uma delas possui vantagens e desvantage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colha de uma delas depende das do sistema sendo desenvolvi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equipe de desenvolvimento pode decidir implementar mais de uma alternati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A58-4064-4A4A-AFC7-1A88CE3046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843280" y="1628640"/>
          <a:ext cx="295272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628640"/>
                    <a:ext cx="295272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4000" y="4138560"/>
          <a:ext cx="8396280" cy="1738440"/>
        </p:xfrm>
        <a:graphic>
          <a:graphicData uri="http://schemas.openxmlformats.org/drawingml/2006/table">
            <a:tbl>
              <a:tblPr/>
              <a:tblGrid>
                <a:gridCol w="8396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ribuinte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endereç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Físic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dataNascimento, CPF,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ontribuin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Jurídic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CNPJ, razãoSocial,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ontribuin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ereço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Nascimento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NPJ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zãoSocial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i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Físic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dataNascimento, nome, endereço, CP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Jurídic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CNPJ, endereço, razãoSoci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rot="2503800">
            <a:off x="1042920" y="1197000"/>
            <a:ext cx="961920" cy="3152880"/>
          </a:xfrm>
          <a:custGeom>
            <a:avLst/>
            <a:gdLst>
              <a:gd name="textAreaLeft" fmla="*/ 128880 w 961920"/>
              <a:gd name="textAreaRight" fmla="*/ 833040 w 961920"/>
              <a:gd name="textAreaTop" fmla="*/ 551520 h 3152880"/>
              <a:gd name="textAreaBottom" fmla="*/ 2286000 h 31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39B-6A24-43D5-8D88-B954DBDB46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1ª alternativa (uma relação para cada classe da hierarquia) é a que melhor reflete o modelo 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asse é mapeada para uma rel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colunas desta relação são correspondentes aos atributos específicos da clas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 desempenho da manipulação das rel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serções e remoções 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junçõ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7EB-76A6-4AA4-8C56-D71917841C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ojeto de banco de dado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73CB-945D-4EFD-A6CE-D15C42AEFB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2ª alternativa de implementação é bastante simples, além de facilitar situações em que objetos mudam de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 alteração de esqu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dição ou remoção de atribu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em o potencial de desperdiçar bastante espaço de armazename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erarquia com várias classes “irmã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pertencem a uma, e somente uma, classe da hierarqu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199-B949-459A-A153-CF221C0C8D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3ª alternativa apresenta a vantagem de agrupar os objetos de uma classe em uma única rel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 quando uma classe é modificada, cada uma das relações correspondentes as suas subclasses deve ser modific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odas as relações correspondentes a subclasses devem ser modificadas quando a definição da superclasse é modific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FFD-2FE4-452B-B165-7B9B298AF4E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O modelo de dados objeto-relacional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D51E-1330-4F4B-BD55-DF9AFC4E3C1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 modelo de dados objeto-relacional (MOR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extensão do modelo relacional, onde são adicionadas características de 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GBDOR é um SGBD que armazena informações de acordo com o 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processar dados relacionais e ob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dronizado em 1999 (SQL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te a definição de estruturas de dados arbitrariamente complexas (cla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lunas podem conter valores de tipos de dados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estrutur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apeamento de objetos pode ser feito mais diret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4B5-E25A-4CCE-946D-160F6A483E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 modelo de dados objeto-relacional (MOR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SGBDOR são ideais para certas aplicações especiais, como CAD/C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atualmente estes SGBDO não dão suporte completo ao padrão SQL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maior suporte a este padrão tornará o mapeamento de objetos mais fác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: existe uma plataforma imensa de sistemas que usam o modelo relacional p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que isso, existe uma grande resistência em substituir esse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so leva a crer que o mapeamento de objetos para o modelo relacional ainda irá durar por muitos 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BD0-AEF0-43BE-BC82-5482F884F9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anutenção de objetos persistentes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402C-A328-4AB8-A954-E0B980AA80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nutenção de objetos persist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s aspectos relativos ao armazenamento de objetos devem ser defin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terialização: restaurar um objeto a partir do banco de dados quando necess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ualização: enviar modificações sobre um objeto para o banc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moção: remover um objeto do armazenamento persist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s funcionalidades permitem que objetos perdurem e sejam modificados em diversas execuções d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1AC-28BB-459C-8BEF-089F899EE6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cesso direto ao banco de dad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 simples: fazer com que cada objeto persistente possua comportamento que permita a sua restauração, atualização ou remoção do mecanismo persistente conforme necessário (SQ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ácil implementação em 4GLs (control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ata aware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lasses da lógica do negócio acopladas às classes relativas à interface e ao acesso ao B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Migração do sistema de um SGBD para outr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Lógica da aplicação fica desprotegida de eventuais modificações na estrutura do B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CA5-7BC9-4A7E-8DF5-E982A1C79B5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cesso direto ao banco de dad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programador deve ter conhecimento sobre SQ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coes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as classes diminui porque cada classe deve possuir responsabilidades relativas ao armazenamento e materialização de seus ob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A dificuldade de manutenção e extensão do código fonte resultante praticamente proíbe a utilização desta abordagem </a:t>
            </a:r>
            <a:r>
              <a:rPr b="0" lang="pt-BR" sz="2900" spc="-1" strike="noStrike" u="sng">
                <a:solidFill>
                  <a:srgbClr val="000000"/>
                </a:solidFill>
                <a:uFillTx/>
                <a:latin typeface="Arial"/>
              </a:rPr>
              <a:t>para sistemas complexos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B09-4639-4C5E-9578-CACFCDE89EF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 camada de persistência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 isolar os objetos de mudanças no mecanismo de armazen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um SGBD diferente tiver que ser utilizado pelo sistema, por exemplo, somente a camada de persistência é modificada; os objetos de domínio permanecem intac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inuição do acoplamento entre os objetos e a estrutura do BD tor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flexível (pode ser modificado para se adaptar a novos requisi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portável (pode ser transportado para outras plataformas de HW ou SW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C96-A1C6-4529-82DB-4E4734C44E5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das primeiras atividades do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rojeto detalha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o desenvolvimento do banco de dados a ser utilizado, se este não exis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ividade: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jeto do banco de d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strução do esquema do banco de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ção de índ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rmazenamento físico dos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finição de visões sobre os dados armazen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ribuição de direitos de aces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líticas de backup dos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529-0FAB-4C24-BE61-DA2D2CA25E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 camada de persistência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mediação traz uma sobrecarga de processamento ao sistema, o que pode diminuir o seu desempen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aumentar a complexidade da realização de certas operações que seriam triviais com o uso direto de SQ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retanto, as vantagens adquiridas pela utilização de uma camada de software, principalmente em sistemas complexos, geralmente compensam as desvantag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81D-9DF0-4452-8F68-465106951A2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 camada de persistência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mas funcionalidades necessárias em uma camada de persistê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lementação da camada de persistênc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sistência de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nipulação de coleções de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enciamento de trans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peamento de nomes de atributos para nomes de colun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591-91A8-4783-9914-7AA17084F4F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po: apenas os aspectos de mapeamento de informações entre as tecnologias de OO e rel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peamento do modelo de classes para o modelo rela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: ferramentas CASE e mapeamento automático; engenharia re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m sempre uma ferramenta CASE está disponí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na existência de uma ferramenta, é importante um conhecimento básico dos procedimentos do mape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F4B-47E2-45F4-8E2D-E6D416B1C0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onceitos do modelo de dados relacional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0116-A060-4E27-B5E4-405583BA40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o modelo de dados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damentado no conceit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l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oluna de uma relação pode conter apena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tômi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have primá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olunas cujos valores podem ser utilizados para identificar unicamente cada linha de uma rel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ções entre linhas: valores de uma coluna fazem referência a valores de uma outra coluna.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have estrangeir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304-1E53-4C2F-B672-7FF0B608E3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o modelo de dados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19640" y="4653000"/>
            <a:ext cx="2415960" cy="1911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have estrangeira também pode conter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valores nul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presentado pela constante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ULL é normalmente é usado para indicar que um valor não se aplica, ou é desconhecido, ou não exi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2AA-0C6F-4781-BCCD-978B34F3D9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21:17Z</dcterms:modified>
  <cp:revision>367</cp:revision>
  <dc:subject>Sildes do livro</dc:subject>
  <dc:title>Princípios de Análise e Projeto Orientados a Objetos com UML</dc:title>
</cp:coreProperties>
</file>