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A36-796C-47FD-98C3-A7DCD94A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55F-A8E3-481B-9BEF-A991F9F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DA5-AE24-4C43-81F2-FD86FE2E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38E-9FA9-4DB0-AA7F-CF7F386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A54-B85F-460F-B46C-6FEAC83E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F12-74EE-43FE-89AE-883A0C2D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5C0-6958-465E-B730-CA2F93E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E76-8994-4D4C-B0AF-08561B3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2D0-8498-4369-9862-6E73E00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0681-DAD1-45D7-903D-A553A1A5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2DE-A990-4D09-9F99-20864285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F51-3B19-440A-A96D-32CD6EAD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117-6C54-490C-96BE-4C0CC36234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ML, Arquitetura e Desenvolvimento de Softwa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lementos de Arquitetura de Softwa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62320" y="2928960"/>
            <a:ext cx="4419360" cy="2227680"/>
            <a:chOff x="2362320" y="2928960"/>
            <a:chExt cx="4419360" cy="2227680"/>
          </a:xfrm>
        </p:grpSpPr>
        <p:sp>
          <p:nvSpPr>
            <p:cNvPr id="85" name=""/>
            <p:cNvSpPr/>
            <p:nvPr/>
          </p:nvSpPr>
          <p:spPr>
            <a:xfrm>
              <a:off x="2362320" y="4757760"/>
              <a:ext cx="44193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work Concei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2320" y="2928960"/>
              <a:ext cx="1631520" cy="13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7960" y="3919320"/>
              <a:ext cx="25153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ru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7960" y="2928960"/>
              <a:ext cx="251532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rtamento Dinâ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886120" y="5715000"/>
            <a:ext cx="33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 algn="ctr"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que são os concei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s seus sig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39084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i) Compon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eios de comun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24320" y="1981080"/>
            <a:ext cx="40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ii) Como os componentes interag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suas transições de 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9084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iv) Serviços ofere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necessários a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2666880"/>
            <a:ext cx="333360" cy="366840"/>
          </a:xfrm>
          <a:prstGeom prst="downArrow">
            <a:avLst>
              <a:gd name="adj1" fmla="val 50000"/>
              <a:gd name="adj2" fmla="val 27511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124080"/>
            <a:ext cx="519120" cy="333360"/>
          </a:xfrm>
          <a:prstGeom prst="rightArrow">
            <a:avLst>
              <a:gd name="adj1" fmla="val 50000"/>
              <a:gd name="adj2" fmla="val 38931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3962520"/>
            <a:ext cx="457200" cy="333360"/>
          </a:xfrm>
          <a:prstGeom prst="leftArrow">
            <a:avLst>
              <a:gd name="adj1" fmla="val 50000"/>
              <a:gd name="adj2" fmla="val 3428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181480"/>
            <a:ext cx="333360" cy="457200"/>
          </a:xfrm>
          <a:prstGeom prst="upArrow">
            <a:avLst>
              <a:gd name="adj1" fmla="val 50000"/>
              <a:gd name="adj2" fmla="val 34287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Black"/>
              </a:rPr>
              <a:t>UML – </a:t>
            </a:r>
            <a:r>
              <a:rPr b="0" i="1" lang="pt-BR" sz="2800" spc="-1" strike="noStrike">
                <a:solidFill>
                  <a:srgbClr val="000000"/>
                </a:solidFill>
                <a:latin typeface="Arial Black"/>
              </a:rPr>
              <a:t>Unified Modeling Languag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nguagem de modelagem padrão OMG para o desenvolvimento de sistemas 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odelagem Visual de sistemas de software, i.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ráfica e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o invés de textual e declara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mbina notação de métodos exist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Booch, OMT e OOSE (Jacobs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luenciado por Fusion, Odell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ão é um método (nem é específico a um méto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.e. sem processo definido, guideline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ML é  grande (e complexo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ssui 8 categorias de notações gráficas, mais OCL (Object Constraint Language) e mecanismos de extens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752480"/>
            <a:ext cx="320040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Object Constraint Language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(O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429000"/>
            <a:ext cx="320040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anismos de Exten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676520"/>
            <a:ext cx="4267080" cy="3869640"/>
            <a:chOff x="304920" y="1676520"/>
            <a:chExt cx="4267080" cy="3869640"/>
          </a:xfrm>
        </p:grpSpPr>
        <p:sp>
          <p:nvSpPr>
            <p:cNvPr id="104" name=""/>
            <p:cNvSpPr/>
            <p:nvPr/>
          </p:nvSpPr>
          <p:spPr>
            <a:xfrm>
              <a:off x="1371600" y="167652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207144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agramas de Ativ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243828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agramas de Est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14400" y="281916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agramas de Colabo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320040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s de Seqü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358128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Casos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396216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s de Estrutur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4343400"/>
              <a:ext cx="320040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mento do Mode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ra que servem as notações de U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66880" y="3505320"/>
            <a:ext cx="3657600" cy="1883880"/>
            <a:chOff x="2666880" y="3505320"/>
            <a:chExt cx="3657600" cy="1883880"/>
          </a:xfrm>
        </p:grpSpPr>
        <p:sp>
          <p:nvSpPr>
            <p:cNvPr id="114" name=""/>
            <p:cNvSpPr/>
            <p:nvPr/>
          </p:nvSpPr>
          <p:spPr>
            <a:xfrm>
              <a:off x="2666880" y="4990320"/>
              <a:ext cx="36576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mework Conceit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6880" y="3505320"/>
              <a:ext cx="1350360" cy="138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86080" y="4309200"/>
              <a:ext cx="20829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ru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86080" y="3505320"/>
              <a:ext cx="20829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ortamento Dinâ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05080" y="5867280"/>
            <a:ext cx="219096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ramas d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32560" y="3352680"/>
            <a:ext cx="2250360" cy="1297800"/>
            <a:chOff x="232560" y="3352680"/>
            <a:chExt cx="2250360" cy="1297800"/>
          </a:xfrm>
        </p:grpSpPr>
        <p:sp>
          <p:nvSpPr>
            <p:cNvPr id="120" name=""/>
            <p:cNvSpPr/>
            <p:nvPr/>
          </p:nvSpPr>
          <p:spPr>
            <a:xfrm>
              <a:off x="232560" y="3352680"/>
              <a:ext cx="2128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Es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200" y="3733560"/>
              <a:ext cx="20797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terfa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(parte do Diagrama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 Clas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555240" y="3200400"/>
            <a:ext cx="2360160" cy="1831320"/>
            <a:chOff x="6555240" y="3200400"/>
            <a:chExt cx="2360160" cy="1831320"/>
          </a:xfrm>
        </p:grpSpPr>
        <p:sp>
          <p:nvSpPr>
            <p:cNvPr id="123" name=""/>
            <p:cNvSpPr/>
            <p:nvPr/>
          </p:nvSpPr>
          <p:spPr>
            <a:xfrm>
              <a:off x="6858000" y="3200400"/>
              <a:ext cx="205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ploy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5720" y="3505320"/>
              <a:ext cx="21333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mpon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809880"/>
              <a:ext cx="21337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co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5240" y="4114800"/>
              <a:ext cx="219564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Obje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parte do Diagrama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 Class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127320" y="1752480"/>
            <a:ext cx="2968560" cy="1557000"/>
            <a:chOff x="3127320" y="1752480"/>
            <a:chExt cx="2968560" cy="1557000"/>
          </a:xfrm>
        </p:grpSpPr>
        <p:sp>
          <p:nvSpPr>
            <p:cNvPr id="128" name=""/>
            <p:cNvSpPr/>
            <p:nvPr/>
          </p:nvSpPr>
          <p:spPr>
            <a:xfrm>
              <a:off x="3429000" y="1752480"/>
              <a:ext cx="26668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s de Ativid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2057400"/>
              <a:ext cx="26668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qüê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2362320"/>
              <a:ext cx="25909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sos de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7320" y="2666880"/>
              <a:ext cx="257508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agrama de Colabor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209680" y="4343400"/>
            <a:ext cx="671760" cy="457200"/>
          </a:xfrm>
          <a:prstGeom prst="rightArrow">
            <a:avLst>
              <a:gd name="adj1" fmla="val 50000"/>
              <a:gd name="adj2" fmla="val 36732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5410080"/>
            <a:ext cx="485640" cy="533520"/>
          </a:xfrm>
          <a:prstGeom prst="upArrow">
            <a:avLst>
              <a:gd name="adj1" fmla="val 50000"/>
              <a:gd name="adj2" fmla="val 27465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4343400"/>
            <a:ext cx="609840" cy="409680"/>
          </a:xfrm>
          <a:prstGeom prst="leftArrow">
            <a:avLst>
              <a:gd name="adj1" fmla="val 50000"/>
              <a:gd name="adj2" fmla="val 3721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048120"/>
            <a:ext cx="486000" cy="533160"/>
          </a:xfrm>
          <a:prstGeom prst="downArrow">
            <a:avLst>
              <a:gd name="adj1" fmla="val 50000"/>
              <a:gd name="adj2" fmla="val 2742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de UML se aplic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4956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Visão de Arquitetu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specialmente Arquitetura Lógica e de Proce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ocumentaçã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Overviews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técn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Manuais de referên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285440" y="2743200"/>
            <a:ext cx="903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8320" y="2057400"/>
            <a:ext cx="173052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9040" y="3352680"/>
            <a:ext cx="213156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de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5080" y="1981080"/>
            <a:ext cx="165132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Fís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25080" y="3276720"/>
            <a:ext cx="2843280" cy="3373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quitetura de Desenvolv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9" idx="3"/>
            <a:endCxn id="138" idx="1"/>
          </p:cNvCxnSpPr>
          <p:nvPr/>
        </p:nvCxnSpPr>
        <p:spPr>
          <a:xfrm>
            <a:off x="3238560" y="2230200"/>
            <a:ext cx="10404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0" idx="3"/>
            <a:endCxn id="138" idx="1"/>
          </p:cNvCxnSpPr>
          <p:nvPr/>
        </p:nvCxnSpPr>
        <p:spPr>
          <a:xfrm flipV="1">
            <a:off x="3370320" y="2915640"/>
            <a:ext cx="9086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3"/>
            <a:endCxn id="141" idx="1"/>
          </p:cNvCxnSpPr>
          <p:nvPr/>
        </p:nvCxnSpPr>
        <p:spPr>
          <a:xfrm flipV="1">
            <a:off x="5195880" y="2153520"/>
            <a:ext cx="5198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3"/>
            <a:endCxn id="142" idx="1"/>
          </p:cNvCxnSpPr>
          <p:nvPr/>
        </p:nvCxnSpPr>
        <p:spPr>
          <a:xfrm>
            <a:off x="5195880" y="2916000"/>
            <a:ext cx="519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cesso de Desenvolvimento Típic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2133720"/>
            <a:ext cx="4191120" cy="101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quê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806960" y="2057400"/>
            <a:ext cx="789840" cy="3733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éx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3880" y="25146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56320" y="297180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3505320"/>
            <a:ext cx="4190760" cy="1015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o? Maior Granul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43880" y="38862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4800600"/>
            <a:ext cx="4190760" cy="46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2200" y="4190760"/>
            <a:ext cx="2177280" cy="1214280"/>
            <a:chOff x="232200" y="4190760"/>
            <a:chExt cx="2177280" cy="1214280"/>
          </a:xfrm>
        </p:grpSpPr>
        <p:sp>
          <p:nvSpPr>
            <p:cNvPr id="156" name=""/>
            <p:cNvSpPr/>
            <p:nvPr/>
          </p:nvSpPr>
          <p:spPr>
            <a:xfrm flipH="1" flipV="1">
              <a:off x="1675800" y="4190400"/>
              <a:ext cx="733320" cy="121428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040 h 1214280"/>
                <a:gd name="textAreaBottom" fmla="*/ 880200 h 12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2200" y="4724280"/>
              <a:ext cx="1271880" cy="39888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id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2200" y="2666880"/>
            <a:ext cx="2177280" cy="1214640"/>
            <a:chOff x="232200" y="2666880"/>
            <a:chExt cx="2177280" cy="1214640"/>
          </a:xfrm>
        </p:grpSpPr>
        <p:sp>
          <p:nvSpPr>
            <p:cNvPr id="159" name=""/>
            <p:cNvSpPr/>
            <p:nvPr/>
          </p:nvSpPr>
          <p:spPr>
            <a:xfrm flipH="1" flipV="1">
              <a:off x="1675800" y="2666880"/>
              <a:ext cx="733320" cy="1214640"/>
            </a:xfrm>
            <a:custGeom>
              <a:avLst/>
              <a:gdLst>
                <a:gd name="textAreaLeft" fmla="*/ 98280 w 733320"/>
                <a:gd name="textAreaRight" fmla="*/ 635040 w 733320"/>
                <a:gd name="textAreaTop" fmla="*/ 212400 h 1214640"/>
                <a:gd name="textAreaBottom" fmla="*/ 880560 h 121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2200" y="3200400"/>
              <a:ext cx="1271880" cy="39888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id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8520" y="1600200"/>
            <a:ext cx="16574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to 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133720"/>
            <a:ext cx="609480" cy="485640"/>
          </a:xfrm>
          <a:prstGeom prst="rightArrow">
            <a:avLst>
              <a:gd name="adj1" fmla="val 50000"/>
              <a:gd name="adj2" fmla="val 31375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952880"/>
            <a:ext cx="419112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105520"/>
            <a:ext cx="419112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o? Granularidade F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388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79800" y="586656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60958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62485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luxo Lógico - Não 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49568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ML e Processo de Desenvolvimento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209680"/>
            <a:ext cx="4190760" cy="1200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oco : Exterior do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ranularidade : Atores /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rot="10800000">
            <a:off x="8326440" y="2057400"/>
            <a:ext cx="60696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2666880"/>
            <a:ext cx="723960" cy="486000"/>
          </a:xfrm>
          <a:prstGeom prst="leftRightArrow">
            <a:avLst>
              <a:gd name="adj1" fmla="val 50000"/>
              <a:gd name="adj2" fmla="val 2965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3048120"/>
            <a:ext cx="5446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3581280"/>
            <a:ext cx="4190760" cy="14439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oco: Interior do Sistema, Exterior de componente e con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ranularidade: Componentes e Cone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505320" y="5257800"/>
            <a:ext cx="4495680" cy="1505160"/>
            <a:chOff x="3505320" y="5257800"/>
            <a:chExt cx="4495680" cy="1505160"/>
          </a:xfrm>
        </p:grpSpPr>
        <p:sp>
          <p:nvSpPr>
            <p:cNvPr id="177" name=""/>
            <p:cNvSpPr/>
            <p:nvPr/>
          </p:nvSpPr>
          <p:spPr>
            <a:xfrm>
              <a:off x="3505320" y="5257800"/>
              <a:ext cx="4190760" cy="4665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5410080"/>
              <a:ext cx="4191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9880" y="5562360"/>
              <a:ext cx="4191120" cy="12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Foco: Interior dos componentes e conect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ranularidade : Obje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62920" y="495288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4724280"/>
            <a:ext cx="2819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work Conce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280" y="3597120"/>
            <a:ext cx="104148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4267080"/>
            <a:ext cx="160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7080" y="3597120"/>
            <a:ext cx="1604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rtamento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4114800"/>
            <a:ext cx="723960" cy="485640"/>
          </a:xfrm>
          <a:prstGeom prst="leftRightArrow">
            <a:avLst>
              <a:gd name="adj1" fmla="val 50000"/>
              <a:gd name="adj2" fmla="val 296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5638680"/>
            <a:ext cx="723960" cy="486000"/>
          </a:xfrm>
          <a:prstGeom prst="leftRightArrow">
            <a:avLst>
              <a:gd name="adj1" fmla="val 50000"/>
              <a:gd name="adj2" fmla="val 2965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2880" y="297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4" idx="3"/>
            <a:endCxn id="171" idx="1"/>
          </p:cNvCxnSpPr>
          <p:nvPr/>
        </p:nvCxnSpPr>
        <p:spPr>
          <a:xfrm flipV="1">
            <a:off x="2901960" y="2809800"/>
            <a:ext cx="603720" cy="10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4" idx="3"/>
            <a:endCxn id="175" idx="1"/>
          </p:cNvCxnSpPr>
          <p:nvPr/>
        </p:nvCxnSpPr>
        <p:spPr>
          <a:xfrm>
            <a:off x="2901960" y="3892680"/>
            <a:ext cx="6037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2895120" y="3886200"/>
            <a:ext cx="9090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35160" y="30481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rtefato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8326440" y="1371240"/>
            <a:ext cx="60696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é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0120" y="2133720"/>
            <a:ext cx="723960" cy="485640"/>
          </a:xfrm>
          <a:prstGeom prst="leftRightArrow">
            <a:avLst>
              <a:gd name="adj1" fmla="val 50000"/>
              <a:gd name="adj2" fmla="val 296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91520" y="289548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505320" y="4952880"/>
            <a:ext cx="4495680" cy="1630800"/>
            <a:chOff x="3505320" y="4952880"/>
            <a:chExt cx="4495680" cy="1630800"/>
          </a:xfrm>
        </p:grpSpPr>
        <p:sp>
          <p:nvSpPr>
            <p:cNvPr id="197" name=""/>
            <p:cNvSpPr/>
            <p:nvPr/>
          </p:nvSpPr>
          <p:spPr>
            <a:xfrm>
              <a:off x="3505320" y="4952880"/>
              <a:ext cx="4190760" cy="4665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7600" y="5105160"/>
              <a:ext cx="4191120" cy="46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5257440"/>
              <a:ext cx="4191120" cy="132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391520" y="4572000"/>
            <a:ext cx="5443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5280" y="4724280"/>
            <a:ext cx="2819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work Conce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280" y="3597120"/>
            <a:ext cx="104148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267080"/>
            <a:ext cx="160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7080" y="3597120"/>
            <a:ext cx="1604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rtamento Dinâ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5638680"/>
            <a:ext cx="723960" cy="486000"/>
          </a:xfrm>
          <a:prstGeom prst="leftRightArrow">
            <a:avLst>
              <a:gd name="adj1" fmla="val 50000"/>
              <a:gd name="adj2" fmla="val 29654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2880" y="2971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4" idx="3"/>
            <a:endCxn id="208" idx="1"/>
          </p:cNvCxnSpPr>
          <p:nvPr/>
        </p:nvCxnSpPr>
        <p:spPr>
          <a:xfrm flipV="1">
            <a:off x="2901960" y="2265120"/>
            <a:ext cx="527760" cy="162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4" idx="3"/>
            <a:endCxn id="210" idx="1"/>
          </p:cNvCxnSpPr>
          <p:nvPr/>
        </p:nvCxnSpPr>
        <p:spPr>
          <a:xfrm>
            <a:off x="2901960" y="3892320"/>
            <a:ext cx="52776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/>
          <p:nvPr/>
        </p:nvCxnSpPr>
        <p:spPr>
          <a:xfrm>
            <a:off x="2895120" y="3886200"/>
            <a:ext cx="909000" cy="179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135160" y="30481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43360" y="5284800"/>
            <a:ext cx="4648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rutural (Diagrama de Obje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sabilidades dos Ob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aborações dos Ob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agrama de Classe -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352680"/>
            <a:ext cx="4495680" cy="1326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rquite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3886200"/>
            <a:ext cx="723960" cy="485640"/>
          </a:xfrm>
          <a:prstGeom prst="leftRightArrow">
            <a:avLst>
              <a:gd name="adj1" fmla="val 50000"/>
              <a:gd name="adj2" fmla="val 29676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429000"/>
            <a:ext cx="4648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rutural (Diagrama de Obje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onentes e Interf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aborações de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agrama de Classe - Arquite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429000" y="1295280"/>
            <a:ext cx="4724280" cy="1951920"/>
            <a:chOff x="3429000" y="1295280"/>
            <a:chExt cx="4724280" cy="1951920"/>
          </a:xfrm>
        </p:grpSpPr>
        <p:sp>
          <p:nvSpPr>
            <p:cNvPr id="208" name=""/>
            <p:cNvSpPr/>
            <p:nvPr/>
          </p:nvSpPr>
          <p:spPr>
            <a:xfrm>
              <a:off x="3429000" y="1295280"/>
              <a:ext cx="4572000" cy="19519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1295280"/>
              <a:ext cx="464796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pa conceit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agrama de Contex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agrama de Use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jetivos e etapas – Use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face do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quisitos não funcion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9:58:16Z</dcterms:created>
  <dc:creator>Gustavo Robichez de Carvalho</dc:creator>
  <dc:description/>
  <dc:language>en-US</dc:language>
  <cp:lastModifiedBy>Gustavo Robichez de Carvalho</cp:lastModifiedBy>
  <dcterms:modified xsi:type="dcterms:W3CDTF">2001-08-09T16:34:49Z</dcterms:modified>
  <cp:revision>6</cp:revision>
  <dc:subject/>
  <dc:title>Elementos de Arquitetura de Software</dc:title>
</cp:coreProperties>
</file>