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72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34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34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872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636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72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872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636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CFB9-8AF3-4987-988D-B219D29F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32E6-8655-4FC9-9484-9A2650D0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2C0B-65B2-4963-A476-C8128D1D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734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7520-5B93-46CF-A24F-0BB44FDA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1EB2-4576-479F-9071-A70E9753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6F8C-134E-4A8A-8A3A-A908A4A4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34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9072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6F41-B34E-4B2E-90EF-EFE1476F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734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1F0D-F52A-492F-BA40-50E04A4C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9072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7B9C-CD7E-4590-AD38-14EE2A43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9072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18C8-F0ED-4F51-9A9B-66A97669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734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9072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734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F192-2132-4354-BE11-4B006C9CE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1872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4636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9072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1872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4636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6C8F-39E0-44AE-9A85-7C428109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34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72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34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34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34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3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E34E-04EB-45C3-BF3A-D1BBE96E3337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Comic Sans MS"/>
              </a:rPr>
              <a:t>M U L T I C A S 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Comic Sans MS"/>
              </a:rPr>
              <a:t>Centro Universitário da Cidad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Comic Sans MS"/>
              </a:rPr>
              <a:t>Projeto de Software</a:t>
            </a:r>
            <a:r>
              <a:rPr b="0" lang="en-US" sz="3200" spc="-1" strike="noStrike">
                <a:solidFill>
                  <a:srgbClr val="402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Comic Sans MS"/>
              </a:rPr>
              <a:t>II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Comic Sans MS"/>
              </a:rPr>
              <a:t>Catarina Abreu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Comic Sans MS"/>
              </a:rPr>
              <a:t>Nuno Caminad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Comic Sans MS"/>
              </a:rPr>
              <a:t>Multicasting Chat em Java 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542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Programa proposto: Chat-forum utilizando o conceito de multicasting e armazenando histórico de mensagens em banco de dados, com opções de criar novas salas e “bisbilhotar” o que está acontecendo em uma sala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Foram utilizados:  Peer-to-peer multicasting, JDBC, Skins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164360" y="765000"/>
            <a:ext cx="6667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33"/>
                </a:solidFill>
                <a:latin typeface="Times New Roman"/>
              </a:rPr>
              <a:t>Funcionament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3990960" cy="2933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905120" y="2895480"/>
            <a:ext cx="83808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5960" y="1981080"/>
            <a:ext cx="16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Area de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informaçõ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858000" y="3276720"/>
            <a:ext cx="380880" cy="2286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86960" y="2438280"/>
            <a:ext cx="16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Tráfego do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cha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352320" y="5181120"/>
            <a:ext cx="685800" cy="3812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0840" y="5410080"/>
            <a:ext cx="40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Área de entrada de informaçõ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33"/>
                </a:solidFill>
                <a:latin typeface="Times New Roman"/>
              </a:rPr>
              <a:t>Classe MulticastCh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1828800"/>
            <a:ext cx="7542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Extende Jfram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Mistura elementos de AWT e Swing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Iniciada com grupo, porta e tempo de vida de pacotes como default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Métodos principais:</a:t>
            </a:r>
            <a:br>
              <a:rPr sz="1800"/>
            </a:b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- initAWT() - inicia a interface gráfica</a:t>
            </a:r>
            <a:br>
              <a:rPr sz="1800"/>
            </a:b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- start() - inicia o funcionamento do Multicast</a:t>
            </a:r>
            <a:br>
              <a:rPr sz="1800"/>
            </a:b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- stop() - pára o Multicast</a:t>
            </a:r>
            <a:br>
              <a:rPr sz="1800"/>
            </a:b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- Separa usuarios em “salas” através de um artifício no tratamento da string de entrada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Comic Sans MS"/>
              </a:rPr>
              <a:t>M U L T I C A S 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Comic Sans MS"/>
              </a:rPr>
              <a:t>Centro Universitário da Cidad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Comic Sans MS"/>
              </a:rPr>
              <a:t>Projeto de Software</a:t>
            </a:r>
            <a:r>
              <a:rPr b="0" lang="en-US" sz="3200" spc="-1" strike="noStrike">
                <a:solidFill>
                  <a:srgbClr val="402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Comic Sans MS"/>
              </a:rPr>
              <a:t>II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Comic Sans MS"/>
              </a:rPr>
              <a:t>Catarina Abreu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Comic Sans MS"/>
              </a:rPr>
              <a:t>Nuno Caminad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Comic Sans MS"/>
              </a:rPr>
              <a:t>M U L T I C A S 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Comic Sans MS"/>
              </a:rPr>
              <a:t>1. Conceitos de Multicas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Comic Sans MS"/>
              </a:rPr>
              <a:t>2. Multicast em Jav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Comic Sans MS"/>
              </a:rPr>
              <a:t>3. Aplicação: Multicasting Ch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Comic Sans MS"/>
              </a:rPr>
              <a:t>Multicast: Conceito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Permite a distribuição eficiente de pacotes na rede de forma simultânea a vários usuários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2000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402000"/>
                </a:solidFill>
                <a:latin typeface="Comic Sans MS"/>
              </a:rPr>
              <a:t>Pode ser analisada em comparação às tecnologias unicast (de máquina a máquina) e broadcast (de uma máquina para todas as máquinas)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2000"/>
                </a:solidFill>
                <a:latin typeface="Comic Sans MS"/>
              </a:rPr>
              <a:t>Somente os computadores que realmente desejam receber a informação, irão recebê-la: para isso eles se "inscrevem" em grupos, e a informação será passada de roteador a roteador aos interessados do outro lado, que fizerem parte do grupo almejado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Comic Sans MS"/>
              </a:rPr>
              <a:t>Multicast: Conceito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2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Comic Sans MS"/>
              </a:rPr>
              <a:t>Transmissão Unicast   x   Trasmissão Multicas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16000" y="2868480"/>
            <a:ext cx="3181320" cy="2000520"/>
          </a:xfrm>
          <a:prstGeom prst="rect">
            <a:avLst/>
          </a:prstGeom>
          <a:ln w="57240">
            <a:solidFill>
              <a:srgbClr val="a08366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038560" y="2924280"/>
            <a:ext cx="3133800" cy="1857240"/>
          </a:xfrm>
          <a:prstGeom prst="rect">
            <a:avLst/>
          </a:prstGeom>
          <a:ln w="57240">
            <a:solidFill>
              <a:srgbClr val="a08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Comic Sans MS"/>
              </a:rPr>
              <a:t>Multicast: Conceito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2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Comic Sans MS"/>
              </a:rPr>
              <a:t>Transmissão Multicast Peer-to-peer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2000"/>
                </a:solidFill>
                <a:latin typeface="Comic Sans MS"/>
              </a:rPr>
              <a:t>(utilizada na aplicação Chat…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987640" y="3141720"/>
            <a:ext cx="3133800" cy="1800000"/>
          </a:xfrm>
          <a:prstGeom prst="rect">
            <a:avLst/>
          </a:prstGeom>
          <a:ln w="57240">
            <a:solidFill>
              <a:srgbClr val="a08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996633"/>
                </a:solidFill>
                <a:latin typeface="Comic Sans MS"/>
              </a:rPr>
              <a:t>Multicast em Java  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542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Comic Sans MS"/>
              </a:rPr>
              <a:t>InetAddress:</a:t>
            </a:r>
            <a:r>
              <a:rPr b="0" lang="pt-BR" sz="2800" spc="-1" strike="noStrike">
                <a:solidFill>
                  <a:srgbClr val="402000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402000"/>
                </a:solidFill>
                <a:latin typeface="Comic Sans MS"/>
              </a:rPr>
              <a:t>Esta classe representa um endereço IP.  Pode ser utilizada para resolver um nome de host para um endereço IP e vice versa.  É utilizada para endereçar hosts numa rede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a08366"/>
                </a:solidFill>
                <a:latin typeface="Comic Sans MS"/>
              </a:rPr>
              <a:t>   </a:t>
            </a:r>
            <a:r>
              <a:rPr b="1" lang="pt-BR" sz="1800" spc="-1" strike="noStrike">
                <a:solidFill>
                  <a:srgbClr val="a08366"/>
                </a:solidFill>
                <a:latin typeface="Comic Sans MS"/>
              </a:rPr>
              <a:t>Principais métodos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835200" indent="-28584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static InetAddress getByName(String host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835200" indent="-28584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boolean isMulticastAddress( 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835200" indent="-28584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String getHostName( 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835200" indent="-28584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byte[ ] getAddress( 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835200" indent="-28584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String getHostAddress( 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867280" y="744480"/>
            <a:ext cx="46692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996633"/>
                </a:solidFill>
                <a:latin typeface="Comic Sans MS"/>
              </a:rPr>
              <a:t>Multicast em Java  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829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lnSpc>
                <a:spcPct val="10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Comic Sans MS"/>
              </a:rPr>
              <a:t>DatagramPacket:</a:t>
            </a:r>
            <a:r>
              <a:rPr b="0" lang="pt-BR" sz="1800" spc="-1" strike="noStrike">
                <a:solidFill>
                  <a:srgbClr val="402000"/>
                </a:solidFill>
                <a:latin typeface="Comic Sans MS"/>
              </a:rPr>
              <a:t> Esta classe representa um datagrama: por exemplo, um pacote de dados a ser transmitido na rede ou que foi recebido da rede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65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a08366"/>
                </a:solidFill>
                <a:latin typeface="Comic Sans MS"/>
              </a:rPr>
              <a:t>    </a:t>
            </a:r>
            <a:r>
              <a:rPr b="1" lang="pt-BR" sz="1800" spc="-1" strike="noStrike">
                <a:solidFill>
                  <a:srgbClr val="a08366"/>
                </a:solidFill>
                <a:latin typeface="Comic Sans MS"/>
              </a:rPr>
              <a:t>Construtores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54468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DatagramPacket(byte[ ] data, int length, InetAddress address, int port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54468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DatagramPacket(byte[ ] data, int length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6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6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08366"/>
                </a:solidFill>
                <a:latin typeface="Comic Sans MS"/>
              </a:rPr>
              <a:t>    </a:t>
            </a:r>
            <a:r>
              <a:rPr b="1" lang="en-US" sz="1800" spc="-1" strike="noStrike">
                <a:solidFill>
                  <a:srgbClr val="a08366"/>
                </a:solidFill>
                <a:latin typeface="Comic Sans MS"/>
              </a:rPr>
              <a:t>Principais métodos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65040" indent="-365040">
              <a:lnSpc>
                <a:spcPct val="65000"/>
              </a:lnSpc>
              <a:spcBef>
                <a:spcPts val="2251"/>
              </a:spcBef>
              <a:buClr>
                <a:srgbClr val="ce9964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InetAddress getAddress();  void setAddress(InetAddress address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int getPort( ); </a:t>
            </a: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          void setPort(Inetint port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byte[ ] getData( ); </a:t>
            </a: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          void setData(byte[ ] data)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int getLength( ); </a:t>
            </a: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          void setLength(int length)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544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6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867280" y="779400"/>
            <a:ext cx="40968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996633"/>
                </a:solidFill>
                <a:latin typeface="Comic Sans MS"/>
              </a:rPr>
              <a:t>Multicast em Java  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542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Comic Sans MS"/>
              </a:rPr>
              <a:t>DatagramSocket:</a:t>
            </a:r>
            <a:r>
              <a:rPr b="0" lang="pt-BR" sz="1800" spc="-1" strike="noStrike">
                <a:solidFill>
                  <a:srgbClr val="402000"/>
                </a:solidFill>
                <a:latin typeface="Comic Sans MS"/>
              </a:rPr>
              <a:t> Esta classe representa uma socket UDP.  Permite que sejam colocados datagramas unicast na rede para serem entregues a um host remoto ou  receber datagramas da rede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a08366"/>
                </a:solidFill>
                <a:latin typeface="Comic Sans MS"/>
              </a:rPr>
              <a:t>   </a:t>
            </a:r>
            <a:r>
              <a:rPr b="1" lang="pt-BR" sz="1800" spc="-1" strike="noStrike">
                <a:solidFill>
                  <a:srgbClr val="a08366"/>
                </a:solidFill>
                <a:latin typeface="Comic Sans MS"/>
              </a:rPr>
              <a:t>Construtores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DatagramSocket( 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DatagramSocket(int port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a08366"/>
                </a:solidFill>
                <a:latin typeface="Comic Sans MS"/>
              </a:rPr>
              <a:t>   </a:t>
            </a:r>
            <a:r>
              <a:rPr b="1" lang="pt-BR" sz="1800" spc="-1" strike="noStrike">
                <a:solidFill>
                  <a:srgbClr val="a08366"/>
                </a:solidFill>
                <a:latin typeface="Comic Sans MS"/>
              </a:rPr>
              <a:t>Principais métodos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void send(DatagramPacket packet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void receive(DatagramPacket packet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void close( 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796000" y="744480"/>
            <a:ext cx="56196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996633"/>
                </a:solidFill>
                <a:latin typeface="Comic Sans MS"/>
              </a:rPr>
              <a:t>Multicast em Java  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542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Comic Sans MS"/>
              </a:rPr>
              <a:t>MulticastSocket:</a:t>
            </a:r>
            <a:r>
              <a:rPr b="0" lang="pt-BR" sz="1800" spc="-1" strike="noStrike">
                <a:solidFill>
                  <a:srgbClr val="402000"/>
                </a:solidFill>
                <a:latin typeface="Comic Sans MS"/>
              </a:rPr>
              <a:t> Esta é uma subclasse de DatagramSocket, provendo suporte para multicast, especificamente a habilidade de se juntar ou abandonar grupos multicast, além de estabelecer o time-to-live dos datagramas transmitidos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a08366"/>
                </a:solidFill>
                <a:latin typeface="Comic Sans MS"/>
              </a:rPr>
              <a:t>   </a:t>
            </a:r>
            <a:r>
              <a:rPr b="1" lang="pt-BR" sz="1800" spc="-1" strike="noStrike">
                <a:solidFill>
                  <a:srgbClr val="a08366"/>
                </a:solidFill>
                <a:latin typeface="Comic Sans MS"/>
              </a:rPr>
              <a:t>Construtor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MulticastSocket(int port)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a08366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a08366"/>
                </a:solidFill>
                <a:latin typeface="Comic Sans MS"/>
              </a:rPr>
              <a:t>   </a:t>
            </a:r>
            <a:r>
              <a:rPr b="1" lang="pt-BR" sz="1800" spc="-1" strike="noStrike">
                <a:solidFill>
                  <a:srgbClr val="a08366"/>
                </a:solidFill>
                <a:latin typeface="Comic Sans MS"/>
              </a:rPr>
              <a:t>Principais métodos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void joinGroup(InetAddress group)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void leaveGroup(InetAddress group)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void setTimeToLive(int ttl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2000"/>
                </a:solidFill>
                <a:latin typeface="Comic Sans MS"/>
              </a:rPr>
              <a:t>int getTimeToLive( )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867280" y="765000"/>
            <a:ext cx="542880" cy="5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4T19:49:27Z</dcterms:created>
  <dc:creator>BR - IT Support</dc:creator>
  <dc:description/>
  <dc:language>en-US</dc:language>
  <cp:lastModifiedBy>Nuno Caminada</cp:lastModifiedBy>
  <cp:lastPrinted>2002-09-04T20:32:35Z</cp:lastPrinted>
  <dcterms:modified xsi:type="dcterms:W3CDTF">2002-12-12T20:06:16Z</dcterms:modified>
  <cp:revision>112</cp:revision>
  <dc:subject/>
  <dc:title>O CURSO DE AÇÕES</dc:title>
</cp:coreProperties>
</file>